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84A0-BF71-4BBD-918E-BC399121F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com is calculated in ground coordina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316-67A2-4FD9-850F-21CEED9B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917-76FE-45C9-AF34-23338C19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CE5-1D86-4012-BFE0-4B869841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96A-3C64-4978-938A-99FEEAC7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5B0-16B1-45F7-9D5D-97AC8521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CA4-C93C-4F30-BB88-C9143122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FAF-C362-4899-B0EB-3E4CF5BF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D01-7D89-4D77-A8CA-8637FBBB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C12-4EE7-4973-982A-2C3FBCB3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6A0-C1AE-4AB9-8F17-DD2A09A0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585-FA23-4D37-967C-378E5CEC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E45-A866-4AB8-BA11-5EA3B88D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B0FB-8BFB-4E35-909A-167D55866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2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89000"/>
            <a:ext cx="67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Pro"/>
              </a:rPr>
              <a:t>ModelComponent :: Force :: BodyDr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78000" y="2027160"/>
          <a:ext cx="408780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2027160"/>
                    <a:ext cx="4087800" cy="9810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370640" y="2471760"/>
            <a:ext cx="1306800" cy="13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7672320" y="4435560"/>
          <a:ext cx="681120" cy="51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72320" y="4435560"/>
                    <a:ext cx="6811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210520" y="1292400"/>
          <a:ext cx="655560" cy="51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10520" y="1292400"/>
                    <a:ext cx="655560" cy="51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7950240" y="3666960"/>
            <a:ext cx="152280" cy="752760"/>
          </a:xfrm>
          <a:prstGeom prst="downArrow">
            <a:avLst>
              <a:gd name="adj1" fmla="val 27472"/>
              <a:gd name="adj2" fmla="val 1077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 rot="1376400">
            <a:off x="8345160" y="1818720"/>
            <a:ext cx="144360" cy="863280"/>
          </a:xfrm>
          <a:prstGeom prst="downArrow">
            <a:avLst>
              <a:gd name="adj1" fmla="val 27472"/>
              <a:gd name="adj2" fmla="val 1303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7720" y="1096920"/>
            <a:ext cx="212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Output: Drag force (Vec3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Reported by ForceRepo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3624120"/>
            <a:ext cx="220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Input: Drag coefficient (doubl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XML Tag: &lt;coeffici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24440" y="3584520"/>
            <a:ext cx="1771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Input: Drag body (st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XML Tag: &lt;body_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11720" y="1111320"/>
            <a:ext cx="223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Input: Drag exponent (doubl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XML Tag: &lt;expon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66160" y="87480"/>
            <a:ext cx="107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yriad Pro"/>
              </a:rPr>
              <a:t>Tim Dor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yriad Pro"/>
              </a:rPr>
              <a:t>Ja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87520" y="1535040"/>
            <a:ext cx="7920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25680" y="2759040"/>
            <a:ext cx="365040" cy="87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231880" y="1552680"/>
            <a:ext cx="127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579560" y="2901600"/>
            <a:ext cx="222120" cy="7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767200">
            <a:off x="7234920" y="3372480"/>
            <a:ext cx="144720" cy="863280"/>
          </a:xfrm>
          <a:prstGeom prst="downArrow">
            <a:avLst>
              <a:gd name="adj1" fmla="val 27472"/>
              <a:gd name="adj2" fmla="val 1299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653160" y="4056120"/>
          <a:ext cx="546120" cy="49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53160" y="4056120"/>
                    <a:ext cx="5461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 flipV="1">
            <a:off x="7164360" y="3116160"/>
            <a:ext cx="868320" cy="8287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7943760" y="3052800"/>
            <a:ext cx="179640" cy="16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8023320" y="3187440"/>
            <a:ext cx="17280" cy="1068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539120" y="1953720"/>
            <a:ext cx="1019160" cy="2266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566120" y="3610080"/>
          <a:ext cx="114120" cy="160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66120" y="3610080"/>
                    <a:ext cx="11412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824960" y="3657600"/>
          <a:ext cx="114120" cy="160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24960" y="3657600"/>
                    <a:ext cx="11412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324000" y="4329000"/>
            <a:ext cx="3960720" cy="23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189000"/>
            <a:ext cx="8037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yriad Pro"/>
              </a:rPr>
              <a:t>Example 1: </a:t>
            </a:r>
            <a:r>
              <a:rPr b="1" lang="en-US" sz="2600" spc="-1" strike="noStrike">
                <a:solidFill>
                  <a:srgbClr val="000000"/>
                </a:solidFill>
                <a:latin typeface="Myriad Pro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Myriad Pro"/>
              </a:rPr>
              <a:t>Three falling mas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Myriad Pro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Myriad Pr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 illustrates the effect of the drag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38120" y="1473120"/>
            <a:ext cx="3878280" cy="5105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54000" y="1620720"/>
            <a:ext cx="71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m=10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e=2</a:t>
            </a:r>
            <a:br>
              <a:rPr sz="1400"/>
            </a:br>
            <a:r>
              <a:rPr b="1" lang="en-US" sz="1400" spc="-1" strike="noStrike">
                <a:solidFill>
                  <a:srgbClr val="99cc00"/>
                </a:solidFill>
                <a:latin typeface="Myriad Pro"/>
              </a:rPr>
              <a:t>c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133960" y="1508040"/>
          <a:ext cx="3200400" cy="83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33960" y="1508040"/>
                    <a:ext cx="3200400" cy="8319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075040" y="1604880"/>
            <a:ext cx="71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m=10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e=2</a:t>
            </a:r>
            <a:br>
              <a:rPr sz="1400"/>
            </a:br>
            <a:r>
              <a:rPr b="1" lang="en-US" sz="1400" spc="-1" strike="noStrike">
                <a:solidFill>
                  <a:srgbClr val="99cc00"/>
                </a:solidFill>
                <a:latin typeface="Myriad Pro"/>
              </a:rPr>
              <a:t>c=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1589040"/>
            <a:ext cx="71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m=10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e=2</a:t>
            </a:r>
            <a:br>
              <a:rPr sz="1400"/>
            </a:br>
            <a:r>
              <a:rPr b="1" lang="en-US" sz="1400" spc="-1" strike="noStrike">
                <a:solidFill>
                  <a:srgbClr val="99cc00"/>
                </a:solidFill>
                <a:latin typeface="Myriad Pro"/>
              </a:rPr>
              <a:t>c=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62840" y="1757520"/>
            <a:ext cx="301320" cy="404640"/>
          </a:xfrm>
          <a:prstGeom prst="ellipse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189000"/>
            <a:ext cx="8037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yriad Pro"/>
              </a:rPr>
              <a:t>Example 2: </a:t>
            </a:r>
            <a:r>
              <a:rPr b="1" lang="en-US" sz="2600" spc="-1" strike="noStrike">
                <a:solidFill>
                  <a:srgbClr val="000000"/>
                </a:solidFill>
                <a:latin typeface="Myriad Pro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Myriad Pro"/>
              </a:rPr>
              <a:t>Simple pendulu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Myriad Pro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Myriad Pr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 practical two dimensional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13200" y="1428840"/>
          <a:ext cx="3198600" cy="83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3200" y="1428840"/>
                    <a:ext cx="3198600" cy="8316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54080" y="2614680"/>
            <a:ext cx="7164360" cy="350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65400" y="2782800"/>
            <a:ext cx="11538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yriad Pro"/>
              </a:rPr>
              <a:t>m=0.75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yriad Pro"/>
              </a:rPr>
              <a:t>e=2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yriad Pro"/>
              </a:rPr>
              <a:t>c=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yriad Pro"/>
              </a:rPr>
              <a:t>q(0) = 90°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yriad Pro"/>
              </a:rPr>
              <a:t>dq(0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131280" y="1118520"/>
            <a:ext cx="4085280" cy="44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34" y="255"/>
                </a:moveTo>
                <a:arcTo wR="10800" hR="10800" stAng="-4651011" swAng="5231649"/>
                <a:lnTo>
                  <a:pt x="10800" y="10800"/>
                </a:lnTo>
                <a:close/>
              </a:path>
              <a:path fill="none" w="21600" h="21600">
                <a:moveTo>
                  <a:pt x="13134" y="255"/>
                </a:moveTo>
                <a:arcTo wR="10800" hR="10800" stAng="-4651011" swAng="5231649"/>
              </a:path>
            </a:pathLst>
          </a:custGeom>
          <a:noFill/>
          <a:ln w="1260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19720" y="3132000"/>
            <a:ext cx="88920" cy="37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8:26:54Z</dcterms:created>
  <dc:creator>Office</dc:creator>
  <dc:description/>
  <dc:language>en-US</dc:language>
  <cp:lastModifiedBy>Office</cp:lastModifiedBy>
  <dcterms:modified xsi:type="dcterms:W3CDTF">2012-07-15T18:31:05Z</dcterms:modified>
  <cp:revision>3</cp:revision>
  <dc:subject/>
  <dc:title>Slide 1</dc:title>
</cp:coreProperties>
</file>