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34B-FC6F-4EF6-A0BE-A9D420CBC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com is calculated in ground 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46F-80FD-4C7F-871A-0FD07C59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929-5B3F-4B6E-943F-6CAF48A9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B41-2B17-4439-BA64-B7ADCC68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4C7-A9A9-418B-BCEF-702B60FC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CCF-3AF8-465E-ADA4-51C934F9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948-5205-441F-919E-B6F8DD30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4FA-B23D-4FAF-9627-98C618A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BC5-3367-4377-AADB-92D87DAB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16C-3E73-4712-AD35-8869F45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F7F-A851-48CF-AA88-C152A5F4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740-46DF-41DD-B243-AAFAF288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BA5-6600-499F-A8CB-53741E87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95ED-658B-4CA1-8E71-1B090DD81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2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9000"/>
            <a:ext cx="67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Pro"/>
              </a:rPr>
              <a:t>ModelComponent :: Force :: BodyDr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78000" y="2027160"/>
          <a:ext cx="40878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2027160"/>
                    <a:ext cx="4087800" cy="981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370640" y="2471760"/>
            <a:ext cx="1306800" cy="13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7672320" y="4435560"/>
          <a:ext cx="681120" cy="51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72320" y="4435560"/>
                    <a:ext cx="6811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10520" y="1292400"/>
          <a:ext cx="655560" cy="51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10520" y="1292400"/>
                    <a:ext cx="655560" cy="51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7950240" y="3666960"/>
            <a:ext cx="152280" cy="752760"/>
          </a:xfrm>
          <a:prstGeom prst="downArrow">
            <a:avLst>
              <a:gd name="adj1" fmla="val 27472"/>
              <a:gd name="adj2" fmla="val 107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376400">
            <a:off x="8345160" y="1818720"/>
            <a:ext cx="144360" cy="863280"/>
          </a:xfrm>
          <a:prstGeom prst="downArrow">
            <a:avLst>
              <a:gd name="adj1" fmla="val 27472"/>
              <a:gd name="adj2" fmla="val 1303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7720" y="1096920"/>
            <a:ext cx="212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Output: Drag force (Vec3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Reported by ForceRepo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3624120"/>
            <a:ext cx="220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Input: Drag coefficient (doubl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XML Tag: &lt;coeffici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24440" y="3584520"/>
            <a:ext cx="177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Input: Drag body (st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XML Tag: &lt;body_na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11720" y="1111320"/>
            <a:ext cx="223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Input: Drag exponent (doubl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XML Tag: &lt;expon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66160" y="87480"/>
            <a:ext cx="107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yriad Pro"/>
              </a:rPr>
              <a:t>Tim Dor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Myriad Pro"/>
              </a:rPr>
              <a:t>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87520" y="1535040"/>
            <a:ext cx="79200" cy="69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25680" y="2759040"/>
            <a:ext cx="365040" cy="87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31880" y="1552680"/>
            <a:ext cx="127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579560" y="2901600"/>
            <a:ext cx="22212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767200">
            <a:off x="7234920" y="3372480"/>
            <a:ext cx="144720" cy="863280"/>
          </a:xfrm>
          <a:prstGeom prst="downArrow">
            <a:avLst>
              <a:gd name="adj1" fmla="val 27472"/>
              <a:gd name="adj2" fmla="val 1299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653160" y="4056120"/>
          <a:ext cx="54612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53160" y="4056120"/>
                    <a:ext cx="5461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 flipV="1">
            <a:off x="7164360" y="3116160"/>
            <a:ext cx="868320" cy="8287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943760" y="3052800"/>
            <a:ext cx="179640" cy="16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8023320" y="3187440"/>
            <a:ext cx="17280" cy="1068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539120" y="1953720"/>
            <a:ext cx="1019160" cy="2266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66120" y="3610080"/>
          <a:ext cx="114120" cy="160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66120" y="3610080"/>
                    <a:ext cx="11412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824960" y="3657600"/>
          <a:ext cx="114120" cy="16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24960" y="3657600"/>
                    <a:ext cx="11412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324000" y="4329000"/>
            <a:ext cx="3960720" cy="23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189000"/>
            <a:ext cx="8037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Example 1: </a:t>
            </a: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Three falling mas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 illustrates the effect of the drag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38120" y="1473120"/>
            <a:ext cx="387828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54000" y="1620720"/>
            <a:ext cx="71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m=10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e=2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Myriad Pro"/>
              </a:rPr>
              <a:t>c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133960" y="1508040"/>
          <a:ext cx="3200400" cy="83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33960" y="1508040"/>
                    <a:ext cx="3200400" cy="8319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075040" y="1604880"/>
            <a:ext cx="71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m=10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e=2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Myriad Pro"/>
              </a:rPr>
              <a:t>c=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1589040"/>
            <a:ext cx="71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m=10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e=2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Myriad Pro"/>
              </a:rPr>
              <a:t>c=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62840" y="1757520"/>
            <a:ext cx="301320" cy="404640"/>
          </a:xfrm>
          <a:prstGeom prst="ellipse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89000"/>
            <a:ext cx="8037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Example 2: </a:t>
            </a: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Myriad Pro"/>
              </a:rPr>
              <a:t>Simple pendulu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Myriad Pr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yriad Pro"/>
              </a:rPr>
              <a:t> practical two dimensional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13200" y="1428840"/>
          <a:ext cx="3198600" cy="83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3200" y="1428840"/>
                    <a:ext cx="3198600" cy="8316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54080" y="2614680"/>
            <a:ext cx="7164360" cy="350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65400" y="2782800"/>
            <a:ext cx="11538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m=0.75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e=2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c=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q(0) = 90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Myriad Pro"/>
              </a:rPr>
              <a:t>dq(0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131280" y="1118520"/>
            <a:ext cx="4085280" cy="44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34" y="255"/>
                </a:moveTo>
                <a:arcTo wR="10800" hR="10800" stAng="-4651011" swAng="5231649"/>
                <a:lnTo>
                  <a:pt x="10800" y="10800"/>
                </a:lnTo>
                <a:close/>
              </a:path>
              <a:path fill="none" w="21600" h="21600">
                <a:moveTo>
                  <a:pt x="13134" y="255"/>
                </a:moveTo>
                <a:arcTo wR="10800" hR="10800" stAng="-4651011" swAng="5231649"/>
              </a:path>
            </a:pathLst>
          </a:custGeom>
          <a:noFill/>
          <a:ln w="1260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19720" y="3132000"/>
            <a:ext cx="88920" cy="37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5T18:26:54Z</dcterms:created>
  <dc:creator>Office</dc:creator>
  <dc:description/>
  <dc:language>en-US</dc:language>
  <cp:lastModifiedBy>Office</cp:lastModifiedBy>
  <dcterms:modified xsi:type="dcterms:W3CDTF">2012-07-15T18:31:05Z</dcterms:modified>
  <cp:revision>3</cp:revision>
  <dc:subject/>
  <dc:title>Slide 1</dc:title>
</cp:coreProperties>
</file>