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4FC-121B-4315-AB36-3551664D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223-9FD7-4326-8751-A98397A1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762-0DE0-4386-B69C-31EE6AD4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B19-4AB9-45E6-9F12-7010763B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2CB-E63E-49D8-936E-7D18D497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7E7-93C8-469E-8611-0F053DE9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B12-965C-433E-80EA-D1FF0D0C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5FD-BFFC-4C1C-894E-4E7114BC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5A8-5CD0-4D53-99DF-0AB472FB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38D-6A43-4DF6-B7C3-D7CD63A5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021-2612-490A-903C-C3D1263C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9A6-5A28-4309-937C-783B5F94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DF39-AB00-426A-8B0D-6245843F119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para WA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an Cor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ulouse, 04-0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 d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43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1981080"/>
            <a:ext cx="350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3040" y="2362320"/>
            <a:ext cx="4748400" cy="36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2374920"/>
            <a:ext cx="4748040" cy="364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8800" y="6080040"/>
            <a:ext cx="83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blema puede ser resuelto sin necesidad de reconfigurar los rob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94160" y="2438280"/>
            <a:ext cx="4749840" cy="364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729320" cy="3646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43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ol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8288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 vá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6080040"/>
            <a:ext cx="86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endo de la misma configuración inicial que en el problema de 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os robots tienen que reconfigurarse para obtener una solución vál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stáculo aña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800" y="2589120"/>
            <a:ext cx="4740480" cy="364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1800" y="2603520"/>
            <a:ext cx="473220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Primero se reconfigura el robot de la dere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828800"/>
            <a:ext cx="320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Después el de la izqui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2240" y="6080040"/>
            <a:ext cx="76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mágenes corresponden a las configuraciones singulares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n la reconfigu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ible reconfigu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2040" y="6080040"/>
            <a:ext cx="813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blema no tiene solución puesto que el nuevo obstáculo impi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nfiguración de los rob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 obstáculo aña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680" y="2379600"/>
            <a:ext cx="4732200" cy="364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03880" y="2452680"/>
            <a:ext cx="4740120" cy="36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43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981080"/>
            <a:ext cx="350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1:21:39Z</dcterms:created>
  <dc:creator>LAAS CNRS</dc:creator>
  <dc:description/>
  <dc:language>en-US</dc:language>
  <cp:lastModifiedBy>LAAS CNRS</cp:lastModifiedBy>
  <dcterms:modified xsi:type="dcterms:W3CDTF">2006-01-04T16:08:46Z</dcterms:modified>
  <cp:revision>6</cp:revision>
  <dc:subject/>
  <dc:title>Ejemplo para WAFR</dc:title>
</cp:coreProperties>
</file>