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6C4-1951-4CA2-BB4B-0C89F1AC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807-877C-4A6A-B56E-107E054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6D1-E87E-4D41-9920-25E3072D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D2B-C6B6-416C-AAC6-E99234BF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2B6-F34E-4518-985F-3712B15D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2A2-FA22-4B58-9BD0-A58A82A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092-F154-4B49-8A6D-7825C503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8AC-D9ED-477C-829E-33EE6856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ED6-AD7D-4F11-87D9-57D5214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3DD-07E7-4F2E-A679-E3F57E0E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A85-2ED4-4DCF-AD46-3DCF825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456-782D-4519-A400-2CC293C0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9F77-511D-4AD2-BDAB-A5C28406C9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para WA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an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ulouse, 04-0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040" y="2362320"/>
            <a:ext cx="4748400" cy="36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2374920"/>
            <a:ext cx="4748040" cy="364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800" y="6080040"/>
            <a:ext cx="83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puede ser resuelto sin necesidad de reconfigurar los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94160" y="2438280"/>
            <a:ext cx="4749840" cy="364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729320" cy="364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43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ol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6080040"/>
            <a:ext cx="86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endo de la misma configuración inicial que en el problema de 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os robots tienen que reconfigurarse para obtener una solución vál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800" y="2589120"/>
            <a:ext cx="4740480" cy="364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1800" y="2603520"/>
            <a:ext cx="47322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Primero se reconfigura el robot de la dere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8288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Después el de l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240" y="6080040"/>
            <a:ext cx="76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mágenes corresponden a las configuraciones singulare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la reconfigu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 reconfigu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040" y="6080040"/>
            <a:ext cx="813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no tiene solución puesto que el nuevo obstáculo impi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nfiguración de los rob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 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680" y="2379600"/>
            <a:ext cx="4732200" cy="364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3880" y="2452680"/>
            <a:ext cx="4740120" cy="36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1:21:39Z</dcterms:created>
  <dc:creator>LAAS CNRS</dc:creator>
  <dc:description/>
  <dc:language>en-US</dc:language>
  <cp:lastModifiedBy>LAAS CNRS</cp:lastModifiedBy>
  <dcterms:modified xsi:type="dcterms:W3CDTF">2006-01-04T16:08:46Z</dcterms:modified>
  <cp:revision>6</cp:revision>
  <dc:subject/>
  <dc:title>Ejemplo para WAFR</dc:title>
</cp:coreProperties>
</file>