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851-5088-4CED-AA7D-4BEA36C4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917-98C2-4C46-881E-2EA99BE6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46B-195A-4BE0-9709-B518B6E5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A1A-C014-4544-BD43-D1C95B95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328-C2E4-48E3-BB3F-86DBEDF4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2E3-44A6-4121-A7E6-4D23E6CC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E37-F09D-426D-92C8-8D8CF0B5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080-4042-4000-858A-C70DC593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046-6991-45D8-8C28-8ABF2B28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ECB-153C-4779-8662-3F864CAA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E93-A05F-4108-A5F6-50A93EE9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61D-B867-4DFF-A54F-C10E628A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B5BB-217D-4CDC-9AA2-30F535E572A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para WA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an Cor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ulouse, 04-01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 de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43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1981080"/>
            <a:ext cx="350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3040" y="2362320"/>
            <a:ext cx="4748400" cy="36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2374920"/>
            <a:ext cx="4748040" cy="364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8800" y="6080040"/>
            <a:ext cx="83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blema puede ser resuelto sin necesidad de reconfigurar los rob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94160" y="2438280"/>
            <a:ext cx="4749840" cy="364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729320" cy="3646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43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ol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8288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 vá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6080040"/>
            <a:ext cx="86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endo de la misma configuración inicial que en el problema de 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os robots tienen que reconfigurarse para obtener una solución vál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stáculo aña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800" y="2589120"/>
            <a:ext cx="4740480" cy="3643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1800" y="2603520"/>
            <a:ext cx="473220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Primero se reconfigura el robot de la dere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828800"/>
            <a:ext cx="320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Después el de la izqui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2240" y="6080040"/>
            <a:ext cx="76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imágenes corresponden a las configuraciones singulares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n la reconfigu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ible reconfigu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2040" y="6080040"/>
            <a:ext cx="813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blema no tiene solución puesto que el nuevo obstáculo impi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nfiguración de los rob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o obstáculo aña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680" y="2379600"/>
            <a:ext cx="4732200" cy="364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03880" y="2452680"/>
            <a:ext cx="4740120" cy="364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43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981080"/>
            <a:ext cx="350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1:21:39Z</dcterms:created>
  <dc:creator>LAAS CNRS</dc:creator>
  <dc:description/>
  <dc:language>en-US</dc:language>
  <cp:lastModifiedBy>LAAS CNRS</cp:lastModifiedBy>
  <dcterms:modified xsi:type="dcterms:W3CDTF">2006-01-04T16:08:46Z</dcterms:modified>
  <cp:revision>6</cp:revision>
  <dc:subject/>
  <dc:title>Ejemplo para WAFR</dc:title>
</cp:coreProperties>
</file>