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7B1C-ECA2-44BF-B90A-007446DD9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451F-33E7-42BD-B7C9-B0B85738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E115-A961-4353-BCD8-6A178A4B6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6EE4-D0F1-4D37-9ACA-2470AD0E4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AE12-24BD-482A-8420-AF11BE6C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053C-815A-42FA-959D-8FE79209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9D14-375D-4465-956B-72267CE4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C493-20FF-4046-B8B3-39CD6F45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A036-D774-407D-BF12-578DD403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8973-D9CD-4E0B-ADD1-2B79EFFF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D722-C403-459A-8B4E-D152B9EE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0756-3712-428E-B4CA-E4345F72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7EC7-D559-4FBE-A69B-4F983A579BE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 para WAF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Juan Cor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ulouse, 04-01-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blema de 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43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1981080"/>
            <a:ext cx="3504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3040" y="2362320"/>
            <a:ext cx="4748400" cy="3641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19720" y="2374920"/>
            <a:ext cx="4748040" cy="3646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8800" y="6080040"/>
            <a:ext cx="83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problema puede ser resuelto sin necesidad de reconfigurar los rob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394160" y="2438280"/>
            <a:ext cx="4749840" cy="3643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729320" cy="3646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440" y="1828440"/>
            <a:ext cx="343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fi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col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1828800"/>
            <a:ext cx="3505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final vá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8800" y="6080040"/>
            <a:ext cx="861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tiendo de la misma configuración inicial que en el problema de bas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dos robots tienen que reconfigurarse para obtener una solución váli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bstáculo aña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8800" y="2589120"/>
            <a:ext cx="4740480" cy="3643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411800" y="2603520"/>
            <a:ext cx="4732200" cy="3645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3886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 Primero se reconfigura el robot de la derech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1828800"/>
            <a:ext cx="3200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 Después el de la izquie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2240" y="6080040"/>
            <a:ext cx="766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imágenes corresponden a las configuraciones singulares 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miten la reconfigu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sible reconfigu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2040" y="6080040"/>
            <a:ext cx="813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problema no tiene solución puesto que el nuevo obstáculo impide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configuración de los rob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tro obstáculo aña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0680" y="2379600"/>
            <a:ext cx="4732200" cy="3640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03880" y="2452680"/>
            <a:ext cx="4740120" cy="3643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43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1981080"/>
            <a:ext cx="3504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ción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4T11:21:39Z</dcterms:created>
  <dc:creator>LAAS CNRS</dc:creator>
  <dc:description/>
  <dc:language>en-US</dc:language>
  <cp:lastModifiedBy>LAAS CNRS</cp:lastModifiedBy>
  <dcterms:modified xsi:type="dcterms:W3CDTF">2006-01-04T16:08:46Z</dcterms:modified>
  <cp:revision>6</cp:revision>
  <dc:subject/>
  <dc:title>Ejemplo para WAFR</dc:title>
</cp:coreProperties>
</file>