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AD0-3C90-493A-979C-0B0CD068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98BD-3658-403F-B7DF-34C9A086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839-F043-4AE3-A05D-6AE2C937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EB7-FC6B-4958-B32A-C975941C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934-3320-4BE1-8DFB-6730F772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F4C5-EF91-4B5C-9A31-1FA6E222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1E65-3BEA-4E39-9DA0-F0D9E9A4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F3DB-3360-45A8-A345-A22405A7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E93F-F359-4F36-BEDD-26493C29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2E85-980C-46EB-A7E5-09430CF2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1295-12AE-467D-8AD3-CE6D96E4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B2F4-E00F-44EE-9562-47D323B0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 fontScale="87000"/>
          </a:bodyPr>
          <a:p>
            <a:pPr marL="141840" indent="-141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307800" indent="-11844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73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62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fld id="{E8E32970-FE43-4797-BC8B-B161383CBBC2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074600"/>
            <a:ext cx="365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29528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066680" y="914400"/>
            <a:ext cx="76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2362320"/>
            <a:ext cx="60948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04920" y="16765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0440" y="91440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380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116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992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25:04Z</dcterms:created>
  <dc:creator>Brian McBride</dc:creator>
  <dc:description/>
  <dc:language>en-US</dc:language>
  <cp:lastModifiedBy>Brian McBride</cp:lastModifiedBy>
  <dcterms:modified xsi:type="dcterms:W3CDTF">2002-03-24T17:51:18Z</dcterms:modified>
  <cp:revision>2</cp:revision>
  <dc:subject/>
  <dc:title>PowerPoint Presentation</dc:title>
</cp:coreProperties>
</file>