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AF0-1945-41BD-BDDE-E76AA889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59E-0177-442A-8DC6-487384E0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0CB-C528-4831-A05E-BA7EF87B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DA4-56B0-48C7-AD1C-8B000883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017-9FDE-45A6-BFF4-368EDF7A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584-C4C7-4ECB-A3CB-E5CFEDD4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61F-B426-4C67-B222-AE1ACA48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9E2-CC8C-43CA-959B-CAC5374C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456-C8B3-4BFE-848A-FC92270F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1B2-3263-4211-BBF7-DC8E1FD7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6A6-CDC5-4A50-B016-49AACF57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1FF-8958-41A0-AB09-861D2CFD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marL="130320" indent="-1303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080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48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094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fld id="{898AD3FA-E88D-479E-98EA-21C61B491B7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90720"/>
            <a:ext cx="36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362320"/>
            <a:ext cx="9907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914040" y="914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360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0" y="9144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21932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752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3800" y="2057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7320" y="243828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9480" y="1828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8680" y="19051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28600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37:13Z</dcterms:created>
  <dc:creator>Brian McBride</dc:creator>
  <dc:description/>
  <dc:language>en-US</dc:language>
  <cp:lastModifiedBy>Brian McBride</cp:lastModifiedBy>
  <dcterms:modified xsi:type="dcterms:W3CDTF">2002-03-24T17:40:27Z</dcterms:modified>
  <cp:revision>3</cp:revision>
  <dc:subject/>
  <dc:title>PowerPoint Presentation</dc:title>
</cp:coreProperties>
</file>