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0DF-7092-40B6-80BE-886341E3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AC3F-2622-4F19-82B0-5100615D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175-3B15-4E1D-A73C-9DDDC61E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904-9D35-49C5-AE4A-CD59BF34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329-226F-41A0-A9D0-B26E3107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D2C-37D4-4905-80EF-98AD4785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01A-7F6D-4D23-BA98-E02CAB84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9F9-8FD7-49A9-8692-3D737638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71080"/>
            <a:ext cx="38862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8A6C-D769-49B5-86F0-F04F19D3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ED2-86DB-470A-BFD7-4666944B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B01-DDD3-4E47-9524-FD180B86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B9C-AEBC-4618-A52C-F4A7C49C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776680"/>
            <a:ext cx="95220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776680"/>
            <a:ext cx="144792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776680"/>
            <a:ext cx="95256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D8C4B44A-6C61-48D7-B3C4-77B796132063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37160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143000" y="7621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98640"/>
            <a:ext cx="36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21932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91440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2286000"/>
            <a:ext cx="76176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7400" y="16002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1600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80320" y="175248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3640" y="17524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7:07:13Z</dcterms:modified>
  <cp:revision>5</cp:revision>
  <dc:subject/>
  <dc:title>PowerPoint Presentation</dc:title>
</cp:coreProperties>
</file>