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8240-2C35-4237-BC0B-E0E03D36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183636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461C-3AE6-4DBC-ADBD-C71C1880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388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167E-20E0-4AF2-8D2A-29A6B9E7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133-FB0B-492A-B662-DAA2C9DC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226-91E1-48B8-8E44-5E6A0669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E33D-0CA5-4292-BB54-8FE7D04D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67EB-06F8-45B7-A89C-25C69729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34D-7D85-4CE6-9745-81C0317B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71080"/>
            <a:ext cx="38862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F26-1314-4331-8E9D-29767045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BBC-48D0-4957-A0C7-A9348125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388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6043-97B2-4C9E-9EEB-51A58121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E627-0DD3-4F40-B7E7-4AF7B079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marL="114480" indent="-1144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680" indent="-9540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-759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3352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2776680"/>
            <a:ext cx="95220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040" y="2776680"/>
            <a:ext cx="144792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2776680"/>
            <a:ext cx="95256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fld id="{A57157DC-9DF9-42E4-A188-93F60B906E3A}" type="slidenum"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371600"/>
            <a:ext cx="12193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143000" y="76212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998640"/>
            <a:ext cx="36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21932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914400"/>
            <a:ext cx="76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286000"/>
            <a:ext cx="60948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2286000"/>
            <a:ext cx="76176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057400" y="160020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16002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8720" y="7621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80320" y="175248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3640" y="175248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3:47:42Z</dcterms:created>
  <dc:creator>Brian McBride</dc:creator>
  <dc:description/>
  <dc:language>en-US</dc:language>
  <cp:lastModifiedBy>Brian McBride</cp:lastModifiedBy>
  <dcterms:modified xsi:type="dcterms:W3CDTF">2002-03-23T17:07:13Z</dcterms:modified>
  <cp:revision>5</cp:revision>
  <dc:subject/>
  <dc:title>PowerPoint Presentation</dc:title>
</cp:coreProperties>
</file>