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335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3097-ED18-44EF-80CD-F32AEC54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336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1D95-D283-42A6-BAEB-DF84A34D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2511-A56F-4B63-9F4D-1665615B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A350-C5E6-4989-BCBD-1BC59B74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D0E2-08C7-4C37-A965-EBC33CD0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6E3C-1C26-41CA-A8FB-4546F7CA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187F-B0B4-40BF-8F4C-75281717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4F57-68CC-4B07-B9AE-66A139AC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744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1481-131B-4085-BD47-F414B8BA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4076-5962-4372-A63D-7B06D8D2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D143-54B9-46B2-B588-D63AEC7D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F145-4BFC-4431-9059-443D7569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marL="230040" indent="-230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96800" indent="-193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763560" indent="-154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66680" indent="-1522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8592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 algn="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4A8B3A44-E337-4E59-956E-477E79901884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724280" y="2286000"/>
            <a:ext cx="4391640" cy="2709720"/>
            <a:chOff x="4724280" y="2286000"/>
            <a:chExt cx="4391640" cy="2709720"/>
          </a:xfrm>
        </p:grpSpPr>
        <p:sp>
          <p:nvSpPr>
            <p:cNvPr id="42" name=""/>
            <p:cNvSpPr/>
            <p:nvPr/>
          </p:nvSpPr>
          <p:spPr>
            <a:xfrm>
              <a:off x="6172200" y="2286000"/>
              <a:ext cx="1447920" cy="812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http://…/JohnSm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724280" y="3505320"/>
              <a:ext cx="121932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hn Sm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715000" y="2895480"/>
              <a:ext cx="5335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086600" y="3132000"/>
              <a:ext cx="3650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53240" y="2895480"/>
              <a:ext cx="11329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pPr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0" y="3352680"/>
              <a:ext cx="106668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315200" y="3048120"/>
              <a:ext cx="763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00800" y="4419720"/>
              <a:ext cx="60948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h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20120" y="4419720"/>
              <a:ext cx="76176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m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629400" y="3733920"/>
              <a:ext cx="380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3733920"/>
              <a:ext cx="228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393680" y="297180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: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53040" y="3835440"/>
              <a:ext cx="126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Fami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08240" y="4038480"/>
              <a:ext cx="118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Giv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447920" y="2362320"/>
            <a:ext cx="1447560" cy="812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Becky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581280"/>
            <a:ext cx="12193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ky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990360" y="297180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320832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960" y="29718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3124080"/>
            <a:ext cx="759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495680"/>
            <a:ext cx="60948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7621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05120" y="38098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3809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9400" y="304812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8400" y="391176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3960" y="411480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1447560" cy="812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590920" y="1143000"/>
            <a:ext cx="12189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63400" y="158580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219320"/>
            <a:ext cx="1371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88920" y="144792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_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8380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…#B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905120" y="9144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41520" y="68580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5:53:22Z</dcterms:created>
  <dc:creator>Brian McBride</dc:creator>
  <dc:description/>
  <dc:language>en-US</dc:language>
  <cp:lastModifiedBy>Brian McBride</cp:lastModifiedBy>
  <dcterms:modified xsi:type="dcterms:W3CDTF">2002-03-24T16:06:54Z</dcterms:modified>
  <cp:revision>1</cp:revision>
  <dc:subject/>
  <dc:title>PowerPoint Presentation</dc:title>
</cp:coreProperties>
</file>