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3049588" cy="2286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B8B2-754B-4AB2-B473-9C766EF0C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25909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1377000"/>
            <a:ext cx="25909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41A5-FD32-4022-B5D9-602ABD4B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137700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56280" y="137700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8EFE-F5B6-416F-A7A1-193E78585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4480" y="66024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80720" y="66024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137700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04480" y="137700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80720" y="137700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B7EC-0B2F-4D2A-AA0A-DDAA432C3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660240"/>
            <a:ext cx="25909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9206-4680-45AA-BB92-1CDE8119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25909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76A1-F97C-48B9-A6EA-9DDCE81B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E515-D12C-4C88-ABAF-E96D7C40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6C17-9F39-457C-A0E2-147A56FD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202680"/>
            <a:ext cx="2590920" cy="17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B827-36D3-4717-8FF4-99680198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137700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547D-05E3-4ED4-912B-D10EFC09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56280" y="137700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9942-7078-4BDE-904C-FEA3471D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1377000"/>
            <a:ext cx="25909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EDD3-0F5F-4A20-93E4-ABF68EBC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660240"/>
            <a:ext cx="25909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marL="114480" indent="-1144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47680" indent="-9540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-7596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53352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4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5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6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2082600"/>
            <a:ext cx="635040" cy="15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41120" y="2082600"/>
            <a:ext cx="965160" cy="15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84480" y="2082600"/>
            <a:ext cx="635040" cy="15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 algn="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fld id="{48C605E0-45F8-4669-B5D7-62D451030804}" type="slidenum"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2880" y="228600"/>
            <a:ext cx="12445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1360" y="1574640"/>
            <a:ext cx="1473120" cy="432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73120" y="914400"/>
            <a:ext cx="0" cy="660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86364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960" y="914400"/>
            <a:ext cx="1132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12880" y="228600"/>
            <a:ext cx="12445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1360" y="1574640"/>
            <a:ext cx="1473120" cy="432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73120" y="914400"/>
            <a:ext cx="0" cy="660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86364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960" y="914400"/>
            <a:ext cx="1132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13:47:42Z</dcterms:created>
  <dc:creator>Brian McBride</dc:creator>
  <dc:description/>
  <dc:language>en-US</dc:language>
  <cp:lastModifiedBy>Brian McBride</cp:lastModifiedBy>
  <dcterms:modified xsi:type="dcterms:W3CDTF">2002-03-23T10:40:53Z</dcterms:modified>
  <cp:revision>4</cp:revision>
  <dc:subject/>
  <dc:title>PowerPoint Presentation</dc:title>
</cp:coreProperties>
</file>