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335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11E8-F774-4E1F-B915-45707FF26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21336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B3D1-60AD-42B4-BAB9-A1897C9C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21336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21336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F7E8-C3AD-4A05-880E-EC94C2492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4152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4152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21336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21336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21336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EA01-C17F-42B3-A4E8-38CDA6647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41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520C-7A28-4D3B-9855-DD67B1AE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AAB1-318C-4370-9110-55EE8A0B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F33F-9715-4D03-9EBE-898553FC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A2EE-5B7E-4D3A-9E3C-32B52035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7448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7FAD-0E57-4744-B588-87FA1F67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21336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B3B1-CD52-4E75-B417-66758154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21336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44DB-41B2-41C8-AAB8-64B2EA3A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21336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F771-28F8-4B9B-82AE-A0F28085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41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marL="230040" indent="-2300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96800" indent="-1936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763560" indent="-154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66680" indent="-1522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0160" indent="-15084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0160" indent="-15084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0160" indent="-15084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4859280"/>
            <a:ext cx="1905120" cy="3556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Autofit/>
          </a:bodyPr>
          <a:lstStyle>
            <a:lvl1pPr indent="0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8592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Autofit/>
          </a:bodyPr>
          <a:lstStyle>
            <a:lvl1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4859280"/>
            <a:ext cx="1905120" cy="3556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Autofit/>
          </a:bodyPr>
          <a:lstStyle>
            <a:lvl1pPr indent="0" algn="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6318BF9F-CE6C-46F6-9CFF-BFD96E38BEDF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724280" y="2286000"/>
            <a:ext cx="4391640" cy="2709720"/>
            <a:chOff x="4724280" y="2286000"/>
            <a:chExt cx="4391640" cy="2709720"/>
          </a:xfrm>
        </p:grpSpPr>
        <p:sp>
          <p:nvSpPr>
            <p:cNvPr id="42" name=""/>
            <p:cNvSpPr/>
            <p:nvPr/>
          </p:nvSpPr>
          <p:spPr>
            <a:xfrm>
              <a:off x="6172200" y="2286000"/>
              <a:ext cx="1447920" cy="812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http://…/JohnSm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724280" y="3505320"/>
              <a:ext cx="1219320" cy="57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John Smi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715000" y="2895480"/>
              <a:ext cx="53352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086600" y="3132000"/>
              <a:ext cx="3650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82880" tIns="91440" bIns="91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53240" y="2895480"/>
              <a:ext cx="11329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82880" tIns="91440" bIns="91440" anchor="t">
              <a:spAutoFit/>
            </a:bodyPr>
            <a:p>
              <a:pPr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vcard:F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58000" y="3352680"/>
              <a:ext cx="106668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315200" y="3048120"/>
              <a:ext cx="763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400800" y="4419720"/>
              <a:ext cx="609480" cy="57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Joh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620120" y="4419720"/>
              <a:ext cx="761760" cy="57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mi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6629400" y="3733920"/>
              <a:ext cx="3808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3733920"/>
              <a:ext cx="228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393680" y="2971800"/>
              <a:ext cx="78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vcard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: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853040" y="3835440"/>
              <a:ext cx="126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vcard:Fami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708240" y="4038480"/>
              <a:ext cx="118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vcard:Giv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447920" y="2362320"/>
            <a:ext cx="1447560" cy="812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Becky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581280"/>
            <a:ext cx="121932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cky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990360" y="297180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320832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960" y="2971800"/>
            <a:ext cx="1132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106668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90920" y="3124080"/>
            <a:ext cx="759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4495680"/>
            <a:ext cx="60948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ck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4495680"/>
            <a:ext cx="76212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05120" y="380988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38098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9400" y="304812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8400" y="3911760"/>
            <a:ext cx="126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ami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3960" y="411480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Gi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533520"/>
            <a:ext cx="1447560" cy="812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590920" y="1143000"/>
            <a:ext cx="12189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63400" y="158580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df:_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1219320"/>
            <a:ext cx="1371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88920" y="144792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df:_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838080"/>
            <a:ext cx="144792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…#B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905120" y="9144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41520" y="68580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df: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15:53:22Z</dcterms:created>
  <dc:creator>Brian McBride</dc:creator>
  <dc:description/>
  <dc:language>en-US</dc:language>
  <cp:lastModifiedBy>Brian McBride</cp:lastModifiedBy>
  <dcterms:modified xsi:type="dcterms:W3CDTF">2002-03-24T16:06:54Z</dcterms:modified>
  <cp:revision>1</cp:revision>
  <dc:subject/>
  <dc:title>PowerPoint Presentation</dc:title>
</cp:coreProperties>
</file>