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496-8879-4A78-8983-0709C42F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549-92A9-4144-B13A-F8218E88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753-EA5B-4A87-B98B-67B2D96D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2AF-DA0D-4B89-9A10-CCB5354F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D99-D268-4D21-9B6A-392B4152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B28-2346-4336-9DCC-9C1409F6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E82-7871-4C13-AED4-80CCFD8B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E21-FDBF-40AF-BD48-C92ADE0A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54E-D6BB-4188-9B5C-40C55C4E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CE0-37D5-4C91-9BC2-60E6C0FB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CA9-1B08-4CDD-8FD7-F36EC1D3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56A-7374-4A02-9AAF-7CF8899B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 fontScale="87000"/>
          </a:bodyPr>
          <a:p>
            <a:pPr marL="141840" indent="-141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7800" indent="-1184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73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62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fld id="{19989CC9-6DE2-4644-8CBC-D0572E4FD3B4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074600"/>
            <a:ext cx="36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066680" y="9144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2362320"/>
            <a:ext cx="60948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" y="1676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0440" y="914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16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92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25:04Z</dcterms:created>
  <dc:creator>Brian McBride</dc:creator>
  <dc:description/>
  <dc:language>en-US</dc:language>
  <cp:lastModifiedBy>Brian McBride</cp:lastModifiedBy>
  <dcterms:modified xsi:type="dcterms:W3CDTF">2002-03-24T17:51:18Z</dcterms:modified>
  <cp:revision>2</cp:revision>
  <dc:subject/>
  <dc:title>PowerPoint Presentation</dc:title>
</cp:coreProperties>
</file>