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7C70-17CE-4587-847A-880419D5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2427-12B8-4240-BA92-430E31B3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C8F-D955-4D01-A17D-4BC215F7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CB3-667E-46CE-BFDE-8EF9E131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8AA-ECCD-4739-9D3C-E8EAF56F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61B-F2AF-4787-BBA5-B236A2C2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7A7-4929-4A49-9A42-E1CDEB0B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853-E2A4-4E01-B9A3-CD8FB574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271080"/>
            <a:ext cx="58291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2FC-E282-4534-A06D-C244EA0F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581-7018-4E9B-BAB6-4E7F2E61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340-5C59-4B09-A676-3A4156D6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F9F-6435-4046-971A-5B360AA9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70000"/>
          </a:bodyPr>
          <a:p>
            <a:pPr marL="148680" indent="-148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220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95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2776680"/>
            <a:ext cx="142884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2776680"/>
            <a:ext cx="217152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2776680"/>
            <a:ext cx="142848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AF261C98-37F3-42F3-A56A-B4521A0D5A2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152280"/>
            <a:ext cx="144756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0746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295280"/>
            <a:ext cx="106704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828800" y="685800"/>
            <a:ext cx="838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362320"/>
            <a:ext cx="60984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066320" y="167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71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592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292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990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52388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7840" y="10666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1430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286000"/>
            <a:ext cx="990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762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4720" y="6858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143000"/>
            <a:ext cx="106704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1676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42280" y="1828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9840" y="236232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4280" y="17524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3480" y="182880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209680"/>
            <a:ext cx="106668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57:51Z</dcterms:created>
  <dc:creator>Brian McBride</dc:creator>
  <dc:description/>
  <dc:language>en-US</dc:language>
  <cp:lastModifiedBy>Brian McBride</cp:lastModifiedBy>
  <dcterms:modified xsi:type="dcterms:W3CDTF">2002-03-24T17:58:18Z</dcterms:modified>
  <cp:revision>1</cp:revision>
  <dc:subject/>
  <dc:title>PowerPoint Presentation</dc:title>
</cp:coreProperties>
</file>