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9588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E4DC-7A16-4635-95FE-ECFB593B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B83E-65B0-4191-A5F7-D2AE505D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749C-5B5C-4A91-A72D-24ED9C06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A51A-F1CD-4222-8ADD-0E7F466F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1ECB-4F90-45BE-9CB1-34B976EB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3607-487B-4733-A17A-D462AB8A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90D-720B-43DC-A95A-D5183DDB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961-EA64-4499-AD01-A4068A94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71080"/>
            <a:ext cx="25909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4BD4-30D2-4C43-ABFB-39870232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0AE-00C4-4812-9315-71E24F1C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C81C-7414-453D-88BE-6A030331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3C4-0647-4DEC-A347-F268D70A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marL="130320" indent="-1303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1080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48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6094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776680"/>
            <a:ext cx="96516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 algn="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fld id="{09B5B320-FD80-4B7E-A63E-4C109101FFF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990720"/>
            <a:ext cx="365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91440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362320"/>
            <a:ext cx="99072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@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60020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914040" y="9144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3600" y="9907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00" y="91440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219320"/>
            <a:ext cx="106668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1752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3800" y="20574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7320" y="243828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09480" y="18288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8680" y="190512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2286000"/>
            <a:ext cx="106668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37:13Z</dcterms:created>
  <dc:creator>Brian McBride</dc:creator>
  <dc:description/>
  <dc:language>en-US</dc:language>
  <cp:lastModifiedBy>Brian McBride</cp:lastModifiedBy>
  <dcterms:modified xsi:type="dcterms:W3CDTF">2002-03-24T17:40:27Z</dcterms:modified>
  <cp:revision>3</cp:revision>
  <dc:subject/>
  <dc:title>PowerPoint Presentation</dc:title>
</cp:coreProperties>
</file>