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2213-66B9-4EBC-9668-DE955119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183636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B734-3A5C-4E3C-92CA-59116AAE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450F-F072-4481-8D8C-C04D0A46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EB2A-27DC-44E5-AA6F-C7B4862E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4D15-DDA2-4C36-A2FC-63B0B9E2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A52F-C477-45E5-AF35-A4F10D79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6DAF-119D-4E78-8056-D35F69E9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EBF4-20AF-4F9E-8ACF-16945A80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271080"/>
            <a:ext cx="58291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ABD0-BE54-4BAA-824E-99037F5B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C26E-C1D1-46C8-A789-00956F69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483E-728E-45D4-9638-2202F44D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3724-5B4F-4AAA-A94A-C43A0A21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 fontScale="70000"/>
          </a:bodyPr>
          <a:p>
            <a:pPr marL="148680" indent="-148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22200" indent="-124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9536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69336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2776680"/>
            <a:ext cx="142884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2776680"/>
            <a:ext cx="217152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2776680"/>
            <a:ext cx="142848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fld id="{D261AA56-F179-4010-BDB2-560772236172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152280"/>
            <a:ext cx="144756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107460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295280"/>
            <a:ext cx="106704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828800" y="685800"/>
            <a:ext cx="8380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362320"/>
            <a:ext cx="60984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362320"/>
            <a:ext cx="76212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066320" y="167652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1676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7120" y="76212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65920" y="20574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22920" y="182880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9907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152388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7840" y="106668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114300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2286000"/>
            <a:ext cx="9903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@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7621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4720" y="68580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143000"/>
            <a:ext cx="106704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16765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42280" y="18288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9840" y="236232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724280" y="17524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3480" y="182880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2209680"/>
            <a:ext cx="1066680" cy="60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57:51Z</dcterms:created>
  <dc:creator>Brian McBride</dc:creator>
  <dc:description/>
  <dc:language>en-US</dc:language>
  <cp:lastModifiedBy>Brian McBride</cp:lastModifiedBy>
  <dcterms:modified xsi:type="dcterms:W3CDTF">2002-03-24T17:58:18Z</dcterms:modified>
  <cp:revision>1</cp:revision>
  <dc:subject/>
  <dc:title>PowerPoint Presentation</dc:title>
</cp:coreProperties>
</file>