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3049588" cy="2286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C2A4-CE4E-43A1-BC49-EC703DA04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25909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1377000"/>
            <a:ext cx="25909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BBDA-1423-4A7C-A2F6-5A51C889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5628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137700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56280" y="137700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CC5E-DFE6-4B3F-B36E-3457175AC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4480" y="66024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80720" y="66024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137700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04480" y="137700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80720" y="137700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D51D-994E-4A73-8AAE-AF8EF4ADD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660240"/>
            <a:ext cx="25909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3846-4351-46AF-88C8-13ACAB36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25909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4E7F-8CEA-4A4B-9D09-40396FB1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12643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56280" y="660240"/>
            <a:ext cx="12643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F488-368A-41EF-8DCC-29817F1D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C3BC-739B-4BE8-9B43-AD094758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202680"/>
            <a:ext cx="2590920" cy="17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A6EB-3FB6-48DA-9022-7B108A3A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56280" y="660240"/>
            <a:ext cx="12643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137700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8CEF-FEE5-4FCB-972E-45FA8821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12643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5628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56280" y="137700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EDC6-B9A1-4331-BB92-899203EC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5628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1377000"/>
            <a:ext cx="25909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6911-DF2E-4626-A272-1C2A0E17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660240"/>
            <a:ext cx="25909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marL="114480" indent="-1144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47680" indent="-9540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-7596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53352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4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5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6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2082600"/>
            <a:ext cx="635040" cy="15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41120" y="2082600"/>
            <a:ext cx="965160" cy="15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84480" y="2082600"/>
            <a:ext cx="635040" cy="15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 algn="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fld id="{59388288-9AAC-4F80-BC06-62F670B6D3EC}" type="slidenum"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2880" y="228600"/>
            <a:ext cx="12445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1360" y="1574640"/>
            <a:ext cx="1473120" cy="432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73120" y="914400"/>
            <a:ext cx="0" cy="660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863640"/>
            <a:ext cx="365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71960" y="914400"/>
            <a:ext cx="1132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12880" y="228600"/>
            <a:ext cx="12445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1360" y="1574640"/>
            <a:ext cx="1473120" cy="432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73120" y="914400"/>
            <a:ext cx="0" cy="660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863640"/>
            <a:ext cx="365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960" y="914400"/>
            <a:ext cx="1132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2T13:47:42Z</dcterms:created>
  <dc:creator>Brian McBride</dc:creator>
  <dc:description/>
  <dc:language>en-US</dc:language>
  <cp:lastModifiedBy>Brian McBride</cp:lastModifiedBy>
  <dcterms:modified xsi:type="dcterms:W3CDTF">2002-03-23T10:40:53Z</dcterms:modified>
  <cp:revision>4</cp:revision>
  <dc:subject/>
  <dc:title>PowerPoint Presentation</dc:title>
</cp:coreProperties>
</file>