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335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D3155-F18F-48F0-ABA3-32135E841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7448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ctr">
            <a:noAutofit/>
          </a:bodyPr>
          <a:p>
            <a:pPr indent="0" algn="ctr">
              <a:buNone/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541520"/>
            <a:ext cx="7772400" cy="152640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213360"/>
            <a:ext cx="7772400" cy="152640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DCEA6-30A3-4E31-AF30-7AB5E2EFB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7448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ctr">
            <a:noAutofit/>
          </a:bodyPr>
          <a:p>
            <a:pPr indent="0" algn="ctr">
              <a:buNone/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54152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54152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21336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21336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295B2-7571-4254-854E-6046A87BD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7448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ctr">
            <a:noAutofit/>
          </a:bodyPr>
          <a:p>
            <a:pPr indent="0" algn="ctr">
              <a:buNone/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54152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54152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54152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21336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21336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21336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3F437-7234-4FDC-A2FA-CF90ACA2C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7448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ctr">
            <a:noAutofit/>
          </a:bodyPr>
          <a:p>
            <a:pPr indent="0" algn="ctr">
              <a:buNone/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54152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F811D-95F6-40E7-8997-10A5C725B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7448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ctr">
            <a:noAutofit/>
          </a:bodyPr>
          <a:p>
            <a:pPr indent="0" algn="ctr">
              <a:buNone/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54152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14E91-630A-47C5-B001-69CF95432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7448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ctr">
            <a:noAutofit/>
          </a:bodyPr>
          <a:p>
            <a:pPr indent="0" algn="ctr">
              <a:buNone/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541520"/>
            <a:ext cx="3792600" cy="320040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541520"/>
            <a:ext cx="3792600" cy="320040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E5D95-8808-49ED-972E-714933FE7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7448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ctr">
            <a:noAutofit/>
          </a:bodyPr>
          <a:p>
            <a:pPr indent="0" algn="ctr">
              <a:buNone/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CD12E-F8FA-441F-B04D-99BCF9706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74480"/>
            <a:ext cx="7772400" cy="412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99D61-337B-42E5-8528-7C2F2FECD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7448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ctr">
            <a:noAutofit/>
          </a:bodyPr>
          <a:p>
            <a:pPr indent="0" algn="ctr">
              <a:buNone/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54152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541520"/>
            <a:ext cx="3792600" cy="320040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21336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BB6B9-3F9C-4FF0-82EF-B7E3E4D9D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7448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ctr">
            <a:noAutofit/>
          </a:bodyPr>
          <a:p>
            <a:pPr indent="0" algn="ctr">
              <a:buNone/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541520"/>
            <a:ext cx="3792600" cy="320040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54152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21336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97549-469B-4120-A901-2B625CE9D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7448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ctr">
            <a:noAutofit/>
          </a:bodyPr>
          <a:p>
            <a:pPr indent="0" algn="ctr">
              <a:buNone/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54152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54152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213360"/>
            <a:ext cx="7772400" cy="152640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8DDED-4408-481B-A1B6-2451ADBA9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7448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ctr">
            <a:noAutofit/>
          </a:bodyPr>
          <a:p>
            <a:pPr indent="0" algn="ctr">
              <a:buNone/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4152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t">
            <a:normAutofit/>
          </a:bodyPr>
          <a:p>
            <a:pPr marL="230040" indent="-23004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96800" indent="-19368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763560" indent="-154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066680" indent="-15228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4" marL="1370160" indent="-15084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5" marL="1370160" indent="-15084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6" marL="1370160" indent="-15084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4859280"/>
            <a:ext cx="1905120" cy="35568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t">
            <a:noAutofit/>
          </a:bodyPr>
          <a:lstStyle>
            <a:lvl1pPr indent="0">
              <a:buNone/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859280"/>
            <a:ext cx="2895840" cy="35568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t">
            <a:noAutofit/>
          </a:bodyPr>
          <a:lstStyle>
            <a:lvl1pPr indent="0" algn="ctr">
              <a:buNone/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4859280"/>
            <a:ext cx="1905120" cy="35568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t">
            <a:noAutofit/>
          </a:bodyPr>
          <a:lstStyle>
            <a:lvl1pPr indent="0" algn="r">
              <a:buNone/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fld id="{F669F598-3F4A-4919-8221-17872C0358AC}" type="slidenum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4724280" y="2286000"/>
            <a:ext cx="4391640" cy="2709720"/>
            <a:chOff x="4724280" y="2286000"/>
            <a:chExt cx="4391640" cy="2709720"/>
          </a:xfrm>
        </p:grpSpPr>
        <p:sp>
          <p:nvSpPr>
            <p:cNvPr id="42" name=""/>
            <p:cNvSpPr/>
            <p:nvPr/>
          </p:nvSpPr>
          <p:spPr>
            <a:xfrm>
              <a:off x="6172200" y="2286000"/>
              <a:ext cx="1447920" cy="812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0600" rIns="30600" tIns="15120" bIns="15120" anchor="ctr">
              <a:noAutofit/>
            </a:bodyPr>
            <a:p>
              <a:pPr algn="ctr">
                <a:tabLst>
                  <a:tab algn="l" pos="0"/>
                  <a:tab algn="l" pos="30492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4876920"/>
                  <a:tab algn="l" pos="5181480"/>
                  <a:tab algn="l" pos="5486400"/>
                  <a:tab algn="l" pos="5791320"/>
                  <a:tab algn="l" pos="609588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</a:rPr>
                <a:t>http://…/JohnSmit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4724280" y="3505320"/>
              <a:ext cx="1219320" cy="576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0600" rIns="30600" tIns="15120" bIns="15120" anchor="ctr">
              <a:noAutofit/>
            </a:bodyPr>
            <a:p>
              <a:pPr algn="ctr">
                <a:tabLst>
                  <a:tab algn="l" pos="0"/>
                  <a:tab algn="l" pos="30492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4876920"/>
                  <a:tab algn="l" pos="5181480"/>
                  <a:tab algn="l" pos="5486400"/>
                  <a:tab algn="l" pos="5791320"/>
                  <a:tab algn="l" pos="6095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John Smit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5715000" y="2895480"/>
              <a:ext cx="53352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086600" y="3132000"/>
              <a:ext cx="36504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2880" rIns="182880" tIns="91440" bIns="91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953240" y="2895480"/>
              <a:ext cx="113292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2880" rIns="182880" tIns="91440" bIns="91440" anchor="t">
              <a:spAutoFit/>
            </a:bodyPr>
            <a:p>
              <a:pPr>
                <a:tabLst>
                  <a:tab algn="l" pos="0"/>
                  <a:tab algn="l" pos="1828800"/>
                  <a:tab algn="l" pos="3657600"/>
                  <a:tab algn="l" pos="5486400"/>
                  <a:tab algn="l" pos="7315200"/>
                  <a:tab algn="l" pos="91440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vcard:F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858000" y="3352680"/>
              <a:ext cx="1066680" cy="457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0600" rIns="30600" tIns="15120" bIns="15120" anchor="ctr">
              <a:noAutofit/>
            </a:bodyPr>
            <a:p>
              <a:pPr algn="ctr">
                <a:tabLst>
                  <a:tab algn="l" pos="0"/>
                  <a:tab algn="l" pos="30492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4876920"/>
                  <a:tab algn="l" pos="5181480"/>
                  <a:tab algn="l" pos="5486400"/>
                  <a:tab algn="l" pos="5791320"/>
                  <a:tab algn="l" pos="6095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315200" y="3048120"/>
              <a:ext cx="7632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6400800" y="4419720"/>
              <a:ext cx="609480" cy="576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0600" rIns="30600" tIns="15120" bIns="15120" anchor="ctr">
              <a:noAutofit/>
            </a:bodyPr>
            <a:p>
              <a:pPr algn="ctr">
                <a:tabLst>
                  <a:tab algn="l" pos="0"/>
                  <a:tab algn="l" pos="30492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4876920"/>
                  <a:tab algn="l" pos="5181480"/>
                  <a:tab algn="l" pos="5486400"/>
                  <a:tab algn="l" pos="5791320"/>
                  <a:tab algn="l" pos="6095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Joh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620120" y="4419720"/>
              <a:ext cx="761760" cy="576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0600" rIns="30600" tIns="15120" bIns="15120" anchor="ctr">
              <a:noAutofit/>
            </a:bodyPr>
            <a:p>
              <a:pPr algn="ctr">
                <a:tabLst>
                  <a:tab algn="l" pos="0"/>
                  <a:tab algn="l" pos="30492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4876920"/>
                  <a:tab algn="l" pos="5181480"/>
                  <a:tab algn="l" pos="5486400"/>
                  <a:tab algn="l" pos="5791320"/>
                  <a:tab algn="l" pos="6095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mit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6629400" y="3733920"/>
              <a:ext cx="38088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3733920"/>
              <a:ext cx="22860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393680" y="2971800"/>
              <a:ext cx="784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vcard</a:t>
              </a: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</a:rPr>
                <a:t>: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853040" y="3835440"/>
              <a:ext cx="1262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vcard:Famil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708240" y="4038480"/>
              <a:ext cx="1185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vcard:Give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1447920" y="2362320"/>
            <a:ext cx="1447560" cy="812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0600" rIns="30600" tIns="15120" bIns="15120" anchor="ctr">
            <a:noAutofit/>
          </a:bodyPr>
          <a:p>
            <a:pPr algn="ctr"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…/BeckySmi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3581280"/>
            <a:ext cx="1219320" cy="576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0600" rIns="30600" tIns="15120" bIns="15120" anchor="ctr">
            <a:noAutofit/>
          </a:bodyPr>
          <a:p>
            <a:pPr algn="ctr"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ecky Smi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990360" y="2971800"/>
            <a:ext cx="53316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362320" y="3208320"/>
            <a:ext cx="36504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28960" y="2971800"/>
            <a:ext cx="11329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pPr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vcard:F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1066680" cy="457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0600" rIns="30600" tIns="15120" bIns="15120" anchor="ctr">
            <a:noAutofit/>
          </a:bodyPr>
          <a:p>
            <a:pPr algn="ctr"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590920" y="3124080"/>
            <a:ext cx="7596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676520" y="4495680"/>
            <a:ext cx="609480" cy="576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0600" rIns="30600" tIns="15120" bIns="15120" anchor="ctr">
            <a:noAutofit/>
          </a:bodyPr>
          <a:p>
            <a:pPr algn="ctr"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eck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95480" y="4495680"/>
            <a:ext cx="762120" cy="576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0600" rIns="30600" tIns="15120" bIns="15120" anchor="ctr">
            <a:noAutofit/>
          </a:bodyPr>
          <a:p>
            <a:pPr algn="ctr"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mi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1905120" y="3809880"/>
            <a:ext cx="3808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48120" y="3809880"/>
            <a:ext cx="2286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669400" y="3048120"/>
            <a:ext cx="784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vcard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: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128400" y="3911760"/>
            <a:ext cx="126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vcard:Fami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983960" y="4114800"/>
            <a:ext cx="118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vcard:Gi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733920" y="533520"/>
            <a:ext cx="1447560" cy="812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0600" rIns="30600" tIns="15120" bIns="15120" anchor="ctr">
            <a:noAutofit/>
          </a:bodyPr>
          <a:p>
            <a:pPr algn="ctr"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2590920" y="1143000"/>
            <a:ext cx="121896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263400" y="1585800"/>
            <a:ext cx="67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rdf:_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952880" y="1219320"/>
            <a:ext cx="1371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488920" y="1447920"/>
            <a:ext cx="67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rdf:_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57200" y="838080"/>
            <a:ext cx="1447920" cy="812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0600" rIns="30600" tIns="15120" bIns="15120" anchor="ctr">
            <a:noAutofit/>
          </a:bodyPr>
          <a:p>
            <a:pPr algn="ctr"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…#Ba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1905120" y="914400"/>
            <a:ext cx="18288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441520" y="685800"/>
            <a:ext cx="82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rdf: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4T15:53:22Z</dcterms:created>
  <dc:creator>Brian McBride</dc:creator>
  <dc:description/>
  <dc:language>en-US</dc:language>
  <cp:lastModifiedBy>Brian McBride</cp:lastModifiedBy>
  <dcterms:modified xsi:type="dcterms:W3CDTF">2002-03-24T16:06:54Z</dcterms:modified>
  <cp:revision>1</cp:revision>
  <dc:subject/>
  <dc:title>PowerPoint Presentation</dc:title>
</cp:coreProperties>
</file>