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49588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693B-996E-43D7-8C96-E84FFA893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39DA-CE23-463F-AAB2-BE38D222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87D2-D94A-4575-A5D3-66D973A4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448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8072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0448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8072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E21D-CB3C-4FE8-9E71-FFA0A4E4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47D3-C8DB-46FE-BC11-07C74E10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3A44-AA7C-443E-B09F-934AD5DE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2B85-520D-4D3A-AE27-C6BD3F8C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F37C-EDD8-47F2-A2A2-B81BA8EB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71080"/>
            <a:ext cx="25909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9C8B-E6E4-40AF-A0FF-D759EBAE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3851-5323-4B99-B8D7-76E2071D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4C80-5961-4487-A336-AF36EC7E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2E5F-D0F6-4A0A-9788-D9AAC8E2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 fontScale="87000"/>
          </a:bodyPr>
          <a:p>
            <a:pPr marL="141840" indent="-14184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307800" indent="-11844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473760" indent="-954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662760" indent="-9540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852120" indent="-9504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5" marL="852120" indent="-9504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6" marL="852120" indent="-9504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Autofit/>
          </a:bodyPr>
          <a:lstStyle>
            <a:lvl1pPr indent="0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41120" y="2776680"/>
            <a:ext cx="965160" cy="20304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Autofit/>
          </a:bodyPr>
          <a:lstStyle>
            <a:lvl1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8448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Autofit/>
          </a:bodyPr>
          <a:lstStyle>
            <a:lvl1pPr indent="0" algn="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fld id="{E10F07BB-F173-46B9-815A-0936BF2DEFCE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22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074600"/>
            <a:ext cx="365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295280"/>
            <a:ext cx="106668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066680" y="914400"/>
            <a:ext cx="76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2362320"/>
            <a:ext cx="60948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362320"/>
            <a:ext cx="76212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04920" y="167652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16765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0440" y="91440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3800" y="20574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1160" y="182880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91440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160020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9920" y="9907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7:25:04Z</dcterms:created>
  <dc:creator>Brian McBride</dc:creator>
  <dc:description/>
  <dc:language>en-US</dc:language>
  <cp:lastModifiedBy>Brian McBride</cp:lastModifiedBy>
  <dcterms:modified xsi:type="dcterms:W3CDTF">2002-03-24T17:51:18Z</dcterms:modified>
  <cp:revision>2</cp:revision>
  <dc:subject/>
  <dc:title>PowerPoint Presentation</dc:title>
</cp:coreProperties>
</file>