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20C-3411-4C5F-B3FA-5CBB91EB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B86-F157-4111-8CE8-A5798539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BB5-857A-4FDB-9F58-DE7ED03A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30E-BB18-4D76-968A-50A24C7B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6B8-F44B-4B99-98DF-1DAE07A2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559-6780-4306-B081-83EEEB06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B57-7458-493C-8E9A-71AD52A4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431-7752-4912-88B4-FC2B02DB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71080"/>
            <a:ext cx="58291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196-0FE2-4CFC-887E-A88395EF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E439-0F40-437D-9D94-EED712E2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738-E815-481F-B52D-B3BCA63C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59B-FCEB-4704-B033-E3A44FDF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70000"/>
          </a:bodyPr>
          <a:p>
            <a:pPr marL="148680" indent="-14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220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95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2776680"/>
            <a:ext cx="142884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2776680"/>
            <a:ext cx="217152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2776680"/>
            <a:ext cx="142848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865FB1AB-1EF1-4689-9BB0-3A06EF8500B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52280"/>
            <a:ext cx="144756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0746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295280"/>
            <a:ext cx="106704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28800" y="68580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362320"/>
            <a:ext cx="60984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066320" y="167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1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592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292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90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52388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7840" y="10666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1430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286000"/>
            <a:ext cx="990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4720" y="6858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143000"/>
            <a:ext cx="10670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676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2280" y="1828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9840" y="236232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4280" y="1752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3480" y="18288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209680"/>
            <a:ext cx="10666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57:51Z</dcterms:created>
  <dc:creator>Brian McBride</dc:creator>
  <dc:description/>
  <dc:language>en-US</dc:language>
  <cp:lastModifiedBy>Brian McBride</cp:lastModifiedBy>
  <dcterms:modified xsi:type="dcterms:W3CDTF">2002-03-24T17:58:18Z</dcterms:modified>
  <cp:revision>1</cp:revision>
  <dc:subject/>
  <dc:title>PowerPoint Presentation</dc:title>
</cp:coreProperties>
</file>