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B06-3C42-41F1-BF03-2E769E74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F4B2-7596-475F-8A22-091769DF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D4E2-5CDE-450C-952D-7DE8B154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561-4B78-402A-B2CC-37067D79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14E-495C-4A29-913D-739A9BB6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13A4-DB4C-449B-BF05-16E9DE98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3AA-8156-4A24-8B77-B10C012A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DEB-2426-414B-9450-489ECDBA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71080"/>
            <a:ext cx="38862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A25C-961B-4BF0-BCA9-ACD33D91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9FE-28B0-4604-BA4C-C03CA7D0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1B6-2DA0-4ED8-B68D-3E5B0C33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8CB-DE21-43BC-9780-BF64D039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776680"/>
            <a:ext cx="95220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776680"/>
            <a:ext cx="144792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776680"/>
            <a:ext cx="95256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99EB57E1-2B45-4E44-A0FC-49515E5B4F86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37160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143000" y="76212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998640"/>
            <a:ext cx="36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21932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914400"/>
            <a:ext cx="76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2286000"/>
            <a:ext cx="76176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57400" y="160020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16002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80320" y="175248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3640" y="17524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7:07:13Z</dcterms:modified>
  <cp:revision>5</cp:revision>
  <dc:subject/>
  <dc:title>PowerPoint Presentation</dc:title>
</cp:coreProperties>
</file>