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3049588" cy="228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A0E-F4E0-4099-8E5D-7EBA497C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37700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503A-8C6C-4507-B1C5-A383CB12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20A-6D47-4939-8BD0-1DC9C2C6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5E66-3DE9-4AFE-8CFC-E5C7E67C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8D11-8AB9-44C1-86E4-6AEE00A2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F9EC-EDD8-42EE-AF74-5F6B1494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EF2-6A7B-4E5A-824B-67D00F0F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478B-C5F1-47F4-AD11-94964E76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02680"/>
            <a:ext cx="259092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CF57-23C6-458F-9C51-33E6385E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8700-EE4B-4C51-B035-4B59D709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9854-E2A7-439A-8E6F-3A42EA36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7202-30DB-46A7-B993-C4DB0FF3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marL="114480" indent="-1144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680" indent="-9540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-759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3352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4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082600"/>
            <a:ext cx="63504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082600"/>
            <a:ext cx="96516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082600"/>
            <a:ext cx="63504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fld id="{D53A6C5A-755E-4DFC-BBAB-0BA4081565EA}" type="slidenum"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2880" y="228600"/>
            <a:ext cx="12445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1360" y="1574640"/>
            <a:ext cx="1473120" cy="4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3120" y="914400"/>
            <a:ext cx="0" cy="6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86364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12880" y="228600"/>
            <a:ext cx="12445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1360" y="1574640"/>
            <a:ext cx="1473120" cy="4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73120" y="914400"/>
            <a:ext cx="0" cy="6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86364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3:47:42Z</dcterms:created>
  <dc:creator>Brian McBride</dc:creator>
  <dc:description/>
  <dc:language>en-US</dc:language>
  <cp:lastModifiedBy>Brian McBride</cp:lastModifiedBy>
  <dcterms:modified xsi:type="dcterms:W3CDTF">2002-03-23T10:40:53Z</dcterms:modified>
  <cp:revision>4</cp:revision>
  <dc:subject/>
  <dc:title>PowerPoint Presentation</dc:title>
</cp:coreProperties>
</file>