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C8A-9CA8-4AE5-9ACF-B682054A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83636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93F-3EEE-40A8-87AD-4016E85F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F5ED-AB1C-476C-BE02-E5A52C27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27C-8C23-4E77-903A-5E05F52C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4B7B-34F3-4678-A42B-E04BA3A9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3B9-A3EA-4B9E-8D4B-44428B9F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09B-AF7B-4625-8F1C-1595E619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11D-B85C-4A65-B670-0DF5CD9D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71080"/>
            <a:ext cx="38862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655A-29ED-4357-A063-791FDB7A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63D-57CC-4461-A913-21AC2609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1BC5-2C3F-4AA8-9CCA-56A24BAF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891-1F7F-421E-AA1A-4BD371F9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marL="114480" indent="-1144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680" indent="-9540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-759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3352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776680"/>
            <a:ext cx="95220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2776680"/>
            <a:ext cx="144792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2776680"/>
            <a:ext cx="95256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fld id="{27BBA3C1-D407-4BA5-9CE7-735C14607E21}" type="slidenum"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371600"/>
            <a:ext cx="12193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143000" y="76212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998640"/>
            <a:ext cx="36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21932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914400"/>
            <a:ext cx="76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60948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2286000"/>
            <a:ext cx="76176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057400" y="160020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16002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7621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80320" y="175248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3640" y="17524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47:42Z</dcterms:created>
  <dc:creator>Brian McBride</dc:creator>
  <dc:description/>
  <dc:language>en-US</dc:language>
  <cp:lastModifiedBy>Brian McBride</cp:lastModifiedBy>
  <dcterms:modified xsi:type="dcterms:W3CDTF">2002-03-23T17:07:13Z</dcterms:modified>
  <cp:revision>5</cp:revision>
  <dc:subject/>
  <dc:title>PowerPoint Presentation</dc:title>
</cp:coreProperties>
</file>