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E381-9EA5-4B7C-BEAD-E1535ACC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183636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B13F-705D-4DF0-8BDD-61988125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E1BF-40CA-4E11-A4C8-33F10B6C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806E-14F1-4C6E-8A14-0A56A25D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4599-8472-43C1-903B-8404FB8B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5395-F4A1-4809-AF6D-850B7838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503F-9C04-4193-85C0-7F00B337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1957-A624-4FEC-ABD4-DE251459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271080"/>
            <a:ext cx="58291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A2B7-6683-46A6-AEB3-49AD57E2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93F6-43B2-4F79-93C6-BD64CA42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41ED-396F-47E3-BE23-8383854F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FE96-A89C-4FD8-8B1E-61289599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 fontScale="70000"/>
          </a:bodyPr>
          <a:p>
            <a:pPr marL="148680" indent="-148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22200" indent="-124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9536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69336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2776680"/>
            <a:ext cx="142884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2776680"/>
            <a:ext cx="217152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2776680"/>
            <a:ext cx="142848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fld id="{3CC73EAC-82BE-448F-A1A9-2242805ABEA6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152280"/>
            <a:ext cx="144756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107460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295280"/>
            <a:ext cx="106704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828800" y="685800"/>
            <a:ext cx="8380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362320"/>
            <a:ext cx="60984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362320"/>
            <a:ext cx="76212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066320" y="167652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1676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7120" y="76212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65920" y="20574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22920" y="182880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9907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152388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7840" y="106668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114300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2286000"/>
            <a:ext cx="9903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@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7621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4720" y="68580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143000"/>
            <a:ext cx="106704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16765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42280" y="18288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9840" y="236232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724280" y="17524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3480" y="182880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2209680"/>
            <a:ext cx="1066680" cy="60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57:51Z</dcterms:created>
  <dc:creator>Brian McBride</dc:creator>
  <dc:description/>
  <dc:language>en-US</dc:language>
  <cp:lastModifiedBy>Brian McBride</cp:lastModifiedBy>
  <dcterms:modified xsi:type="dcterms:W3CDTF">2002-03-24T17:58:18Z</dcterms:modified>
  <cp:revision>1</cp:revision>
  <dc:subject/>
  <dc:title>PowerPoint Presentation</dc:title>
</cp:coreProperties>
</file>