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20C-6B46-463A-B735-08FB9F7E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7F4-32B1-4D2E-B942-78DD45DD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0CE8-B87C-422D-BA14-582032EA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88092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1836360"/>
            <a:ext cx="187668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16F-C435-4FF6-841A-B910FD05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71F-0BA9-4FD3-93DE-289D6208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3B04-08F8-4C37-9FA0-DBBC1701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C04-5FFF-4420-8169-A90204EE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3F5-8D27-41D6-84EA-BA6B98E1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271080"/>
            <a:ext cx="58291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736-8091-499A-96AC-5758243C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864-9236-482E-96A2-047E0A80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183636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CDF-EA59-4ABD-A57F-0FDA2091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880920"/>
            <a:ext cx="284436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1836360"/>
            <a:ext cx="58291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2FA-5B5B-4227-B6F9-39B7B4E5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50796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88092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70000"/>
          </a:bodyPr>
          <a:p>
            <a:pPr marL="148680" indent="-148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2220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95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36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891000" indent="-990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2776680"/>
            <a:ext cx="142884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2776680"/>
            <a:ext cx="217152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2776680"/>
            <a:ext cx="1428480" cy="203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06248B5C-6C35-4159-92CC-552997BCF59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152280"/>
            <a:ext cx="144756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0746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295280"/>
            <a:ext cx="106704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828800" y="685800"/>
            <a:ext cx="8380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362320"/>
            <a:ext cx="60984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066320" y="167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71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592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292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990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52388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7840" y="10666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14300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286000"/>
            <a:ext cx="99036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762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4720" y="6858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143000"/>
            <a:ext cx="106704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1676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42280" y="1828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9840" y="236232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4280" y="17524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3480" y="182880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209680"/>
            <a:ext cx="106668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57:51Z</dcterms:created>
  <dc:creator>Brian McBride</dc:creator>
  <dc:description/>
  <dc:language>en-US</dc:language>
  <cp:lastModifiedBy>Brian McBride</cp:lastModifiedBy>
  <dcterms:modified xsi:type="dcterms:W3CDTF">2002-03-24T17:58:18Z</dcterms:modified>
  <cp:revision>1</cp:revision>
  <dc:subject/>
  <dc:title>PowerPoint Presentation</dc:title>
</cp:coreProperties>
</file>