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851-DE82-4B59-A872-F6F9A2BD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12C-853E-4916-818A-52114C42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FE9-3D63-4FF8-8BF1-BA70CC62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1AA-EA25-4AFF-BDBC-A9E59EED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839-8F47-4B97-ACFA-18727AE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401-C659-4FFA-B4EC-56D9901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CDE-D3D8-42C3-A0A3-A799B735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B77-3BED-46F0-A482-BD367EA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799-2CE3-45F0-BF13-498CFAB1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A9B-7840-4FA3-AC68-D1BD712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E5C-8426-4E8D-B92E-DA0582A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742-7159-4CED-8AC5-967BD8F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ctr">
            <a:noAutofit/>
          </a:bodyPr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rmAutofit/>
          </a:bodyPr>
          <a:p>
            <a:pPr marL="130320" indent="-1303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1080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4348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094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784080" indent="-87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34920" rIns="34920" tIns="17280" bIns="17280" anchor="t">
            <a:noAutofit/>
          </a:bodyPr>
          <a:lstStyle>
            <a:lvl1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fld id="{79049841-CADC-4885-BFA9-129DD3C235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90720"/>
            <a:ext cx="365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362320"/>
            <a:ext cx="9907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@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914040" y="914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60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91440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1932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752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3800" y="20574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320" y="243828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09480" y="1828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8680" y="19051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286000"/>
            <a:ext cx="10666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37:13Z</dcterms:created>
  <dc:creator>Brian McBride</dc:creator>
  <dc:description/>
  <dc:language>en-US</dc:language>
  <cp:lastModifiedBy>Brian McBride</cp:lastModifiedBy>
  <dcterms:modified xsi:type="dcterms:W3CDTF">2002-03-24T17:40:27Z</dcterms:modified>
  <cp:revision>3</cp:revision>
  <dc:subject/>
  <dc:title>PowerPoint Presentation</dc:title>
</cp:coreProperties>
</file>