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2417-966C-40F4-91DF-B6F1B57C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5148-D1D6-47F0-8B42-5CBF645A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3FA-6A1F-4EEE-836A-F79884DC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88092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836360"/>
            <a:ext cx="12510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D68-39D2-4781-AB69-0AE707E1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9756-F5F3-47F3-B4DA-4F057775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8FB9-8BD4-4443-B64D-F7F744F4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2E9-7063-45FE-9A4E-53A29958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5F41-26F8-453B-AB9F-CF262ECD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71080"/>
            <a:ext cx="38862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427-7F26-46ED-B699-5644EACA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E48-4F72-4302-893D-3CBA38C2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83636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F7C2-72B5-4726-851A-E458C96C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880920"/>
            <a:ext cx="189612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836360"/>
            <a:ext cx="3886200" cy="87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BA1-6A1E-42C6-8645-AF36BB44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71080"/>
            <a:ext cx="3886200" cy="50796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8809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776680"/>
            <a:ext cx="95220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776680"/>
            <a:ext cx="144792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776680"/>
            <a:ext cx="952560" cy="2030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6C00E3F5-C522-4606-AA2B-2A22869C2F10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52280"/>
            <a:ext cx="1447920" cy="812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371600"/>
            <a:ext cx="121932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143000" y="76212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998640"/>
            <a:ext cx="36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219320"/>
            <a:ext cx="10666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914400"/>
            <a:ext cx="76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60948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2286000"/>
            <a:ext cx="761760" cy="5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057400" y="160020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16002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7621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80320" y="175248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3640" y="175248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card:G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7:07:13Z</dcterms:modified>
  <cp:revision>5</cp:revision>
  <dc:subject/>
  <dc:title>PowerPoint Presentation</dc:title>
</cp:coreProperties>
</file>