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A9A-ECD5-4EC6-9932-91FB79AF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94C-78E3-467D-B3B9-1077071A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088-9FD7-46E8-BC16-A2488FB2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4152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3360"/>
            <a:ext cx="250236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26D-3C73-4D61-B0EA-A898E5C7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9B1-3D3B-4D33-9BD4-673C79E7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E9A-75D7-48C9-8AA0-2EDF622B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EFA-04CD-417C-A774-ACFF456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2AF-1183-4A1A-B0F8-79BCE8D5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74480"/>
            <a:ext cx="7772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7A0-C2DD-4A2D-BB2B-86DC7A44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71A-7232-4D34-ACDD-EBF51B35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336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565-0E05-4D3C-A8F0-00CA6B5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41520"/>
            <a:ext cx="37926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3360"/>
            <a:ext cx="7772400" cy="1526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33A-102F-4512-B0F1-D8BEC76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rmAutofit/>
          </a:bodyPr>
          <a:p>
            <a:pPr marL="230040" indent="-2300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6800" indent="-1936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763560" indent="-154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66680" indent="-1522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0160" indent="-15084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lstStyle>
            <a:lvl1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F248E43E-79DE-4D97-AD88-9BEBC7808A8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24280" y="2286000"/>
            <a:ext cx="4391640" cy="2709720"/>
            <a:chOff x="4724280" y="2286000"/>
            <a:chExt cx="4391640" cy="2709720"/>
          </a:xfrm>
        </p:grpSpPr>
        <p:sp>
          <p:nvSpPr>
            <p:cNvPr id="42" name=""/>
            <p:cNvSpPr/>
            <p:nvPr/>
          </p:nvSpPr>
          <p:spPr>
            <a:xfrm>
              <a:off x="6172200" y="2286000"/>
              <a:ext cx="1447920" cy="81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http://…/JohnSm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3505320"/>
              <a:ext cx="121932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 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715000" y="2895480"/>
              <a:ext cx="5335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086600" y="3132000"/>
              <a:ext cx="365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895480"/>
              <a:ext cx="113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82880" tIns="91440" bIns="91440" anchor="t">
              <a:spAutoFit/>
            </a:bodyPr>
            <a:p>
              <a:pPr>
                <a:tabLst>
                  <a:tab algn="l" pos="0"/>
                  <a:tab algn="l" pos="1828800"/>
                  <a:tab algn="l" pos="3657600"/>
                  <a:tab algn="l" pos="5486400"/>
                  <a:tab algn="l" pos="7315200"/>
                  <a:tab algn="l" pos="91440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0" y="3352680"/>
              <a:ext cx="106668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520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00800" y="4419720"/>
              <a:ext cx="60948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0120" y="4419720"/>
              <a:ext cx="761760" cy="57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tabLst>
                  <a:tab algn="l" pos="0"/>
                  <a:tab algn="l" pos="30492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4876920"/>
                  <a:tab algn="l" pos="5181480"/>
                  <a:tab algn="l" pos="5486400"/>
                  <a:tab algn="l" pos="5791320"/>
                  <a:tab algn="l" pos="6095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629400" y="37339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3733920"/>
              <a:ext cx="228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3680" y="297180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: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53040" y="3835440"/>
              <a:ext cx="126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Fami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08240" y="403848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vcard:Gi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447920" y="23623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Becky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58128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2971800"/>
            <a:ext cx="5331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320832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960" y="29718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3124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49568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7621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05120" y="3809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809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9400" y="304812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0" y="39117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3960" y="4114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1447560" cy="812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90920" y="114300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63400" y="15858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2193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8920" y="14479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_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8380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…#B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9144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6858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15:53:22Z</dcterms:created>
  <dc:creator>Brian McBride</dc:creator>
  <dc:description/>
  <dc:language>en-US</dc:language>
  <cp:lastModifiedBy>Brian McBride</cp:lastModifiedBy>
  <dcterms:modified xsi:type="dcterms:W3CDTF">2002-03-24T16:06:54Z</dcterms:modified>
  <cp:revision>1</cp:revision>
  <dc:subject/>
  <dc:title>PowerPoint Presentation</dc:title>
</cp:coreProperties>
</file>