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3049588" cy="2286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22C6-D200-48F8-A33C-3355CD8B0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660240"/>
            <a:ext cx="25909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1377000"/>
            <a:ext cx="25909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1A44-CFAD-4EE2-BA46-A6D83ADB0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66024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56280" y="66024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137700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56280" y="137700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C925-26D1-4DB0-AEC5-92D0B0E5C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660240"/>
            <a:ext cx="8341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04480" y="660240"/>
            <a:ext cx="8341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80720" y="660240"/>
            <a:ext cx="8341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1377000"/>
            <a:ext cx="8341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04480" y="1377000"/>
            <a:ext cx="8341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80720" y="1377000"/>
            <a:ext cx="8341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36AD-17C8-4516-B19A-1C1F44E08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660240"/>
            <a:ext cx="25909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C81B-9160-4BC1-80F0-E19405427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660240"/>
            <a:ext cx="2590920" cy="13716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0807-9693-4991-8EA9-6FBF09AA6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660240"/>
            <a:ext cx="1264320" cy="13716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56280" y="660240"/>
            <a:ext cx="1264320" cy="13716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7AD3-55DD-4E26-A544-3A0746821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BAB9-8883-4146-A7DD-9B9B208F5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202680"/>
            <a:ext cx="2590920" cy="17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F5D4-29D4-4B9E-AD75-74903017E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66024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56280" y="660240"/>
            <a:ext cx="1264320" cy="13716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137700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DF4C-0C6C-486E-AE17-9064BE64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660240"/>
            <a:ext cx="1264320" cy="13716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56280" y="66024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56280" y="137700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BE63-0991-485C-BEED-13CF8B0C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66024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56280" y="660240"/>
            <a:ext cx="12643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1377000"/>
            <a:ext cx="2590920" cy="65412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5A19-8986-442E-AEFD-FB68B68D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ctr">
            <a:noAutofit/>
          </a:bodyPr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660240"/>
            <a:ext cx="2590920" cy="137160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rmAutofit/>
          </a:bodyPr>
          <a:p>
            <a:pPr marL="114480" indent="-1144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47680" indent="-9540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indent="-7596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533520" indent="-7632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4" marL="685800" indent="-7632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5" marL="685800" indent="-7632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6" marL="685800" indent="-7632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2082600"/>
            <a:ext cx="635040" cy="15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Autofit/>
          </a:bodyPr>
          <a:lstStyle>
            <a:lvl1pPr indent="0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  <a:defRPr b="0" lang="en-US" sz="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41120" y="2082600"/>
            <a:ext cx="965160" cy="15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Autofit/>
          </a:bodyPr>
          <a:lstStyle>
            <a:lvl1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  <a:defRPr b="0" lang="en-US" sz="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84480" y="2082600"/>
            <a:ext cx="635040" cy="152280"/>
          </a:xfrm>
          <a:prstGeom prst="rect">
            <a:avLst/>
          </a:prstGeom>
          <a:noFill/>
          <a:ln w="0">
            <a:noFill/>
          </a:ln>
        </p:spPr>
        <p:txBody>
          <a:bodyPr lIns="30600" rIns="30600" tIns="15120" bIns="15120" anchor="t">
            <a:noAutofit/>
          </a:bodyPr>
          <a:lstStyle>
            <a:lvl1pPr indent="0" algn="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  <a:defRPr b="0" lang="en-US" sz="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fld id="{2FB8B564-2D8A-4D56-80AC-A99A1BC35AD6}" type="slidenum"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12880" y="228600"/>
            <a:ext cx="12445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…/JohnSm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1360" y="1574640"/>
            <a:ext cx="1473120" cy="432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 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73120" y="914400"/>
            <a:ext cx="0" cy="660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76520" y="863640"/>
            <a:ext cx="3650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71960" y="914400"/>
            <a:ext cx="1132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card:F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12880" y="228600"/>
            <a:ext cx="12445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…/JohnSm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11360" y="1574640"/>
            <a:ext cx="1473120" cy="432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0600" rIns="30600" tIns="15120" bIns="15120" anchor="ctr">
            <a:noAutofit/>
          </a:bodyPr>
          <a:p>
            <a:pPr algn="ctr"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4876920"/>
                <a:tab algn="l" pos="5181480"/>
                <a:tab algn="l" pos="5486400"/>
                <a:tab algn="l" pos="5791320"/>
                <a:tab algn="l" pos="6095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 Sm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73120" y="914400"/>
            <a:ext cx="0" cy="660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76520" y="863640"/>
            <a:ext cx="3650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960" y="914400"/>
            <a:ext cx="1132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91440" bIns="91440" anchor="t">
            <a:spAutoFit/>
          </a:bodyPr>
          <a:p>
            <a:pPr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card:F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2T13:47:42Z</dcterms:created>
  <dc:creator>Brian McBride</dc:creator>
  <dc:description/>
  <dc:language>en-US</dc:language>
  <cp:lastModifiedBy>Brian McBride</cp:lastModifiedBy>
  <dcterms:modified xsi:type="dcterms:W3CDTF">2002-03-23T10:40:53Z</dcterms:modified>
  <cp:revision>4</cp:revision>
  <dc:subject/>
  <dc:title>PowerPoint Presentation</dc:title>
</cp:coreProperties>
</file>