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9588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31E-0491-4102-B716-1E8F82C3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5B8-55E8-4669-91DB-24C462A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EC6-402D-404B-AFAD-AC2CF4E4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88092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836360"/>
            <a:ext cx="8341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E0D-4A1C-4AE1-84B5-09B74C3E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F04-9426-447A-8324-7D15EE28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4F3-8DF2-4BE0-8827-8771DEC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C07-E7C9-4FF3-BB83-3A69D9E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B12-6BFE-4331-86CF-D1921C4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71080"/>
            <a:ext cx="25909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99A-6AD6-4AC4-BAFC-3E5E78A0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5DA-8F1C-4D89-8D34-DE41323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83636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D72-60CB-4504-806E-5C5FB6B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880920"/>
            <a:ext cx="12643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836360"/>
            <a:ext cx="2590920" cy="87228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225-4B50-462A-AF8C-AF0B78B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71080"/>
            <a:ext cx="2590920" cy="50796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880920"/>
            <a:ext cx="2590920" cy="182880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rmAutofit fontScale="87000"/>
          </a:bodyPr>
          <a:p>
            <a:pPr marL="141840" indent="-141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7800" indent="-11844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73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62760" indent="-95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852120" indent="-9504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776680"/>
            <a:ext cx="96516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776680"/>
            <a:ext cx="635040" cy="203040"/>
          </a:xfrm>
          <a:prstGeom prst="rect">
            <a:avLst/>
          </a:prstGeom>
          <a:noFill/>
          <a:ln w="0">
            <a:noFill/>
          </a:ln>
        </p:spPr>
        <p:txBody>
          <a:bodyPr lIns="43560" rIns="43560" tIns="21600" bIns="21600" anchor="t">
            <a:noAutofit/>
          </a:bodyPr>
          <a:lstStyle>
            <a:lvl1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fld id="{0F247A79-3684-46AE-A80E-1DF250C3236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074600"/>
            <a:ext cx="36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29528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066680" y="9144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362320"/>
            <a:ext cx="60948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362320"/>
            <a:ext cx="76212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1676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0440" y="91440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3800" y="20574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160" y="182880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914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600200"/>
            <a:ext cx="1066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9920" y="9907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7:25:04Z</dcterms:created>
  <dc:creator>Brian McBride</dc:creator>
  <dc:description/>
  <dc:language>en-US</dc:language>
  <cp:lastModifiedBy>Brian McBride</cp:lastModifiedBy>
  <dcterms:modified xsi:type="dcterms:W3CDTF">2002-03-24T17:51:18Z</dcterms:modified>
  <cp:revision>2</cp:revision>
  <dc:subject/>
  <dc:title>PowerPoint Presentation</dc:title>
</cp:coreProperties>
</file>