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049588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7B5-E94B-4A58-80B2-09E26309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350-0B73-4A14-A6BD-6F446E82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279-8693-4C1C-86EA-45EC10D8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C81-4A28-4EFD-960C-F0259987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4D5-F9D2-4295-B00B-2601A20A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04F-3E74-417A-BE58-39A0B0B0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39B-EF1B-45B9-9171-247496F8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D03-7B18-4937-ABB5-BD3F4F14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02680"/>
            <a:ext cx="25909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EB1-C45A-40F2-8EDF-7DC0C499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823-0A56-4712-92B8-A19C2727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F03-EFDF-4789-AF47-58421FF0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5B7-F222-41CE-B5EB-B2D16DF8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082600"/>
            <a:ext cx="96516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9261BB1F-64AD-4157-873C-02CF817B8492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0:40:53Z</dcterms:modified>
  <cp:revision>4</cp:revision>
  <dc:subject/>
  <dc:title>PowerPoint Presentation</dc:title>
</cp:coreProperties>
</file>