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335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D04-DB3F-4BD9-A480-B189F0CA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98C-69B3-456C-9130-8FC56F39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0A3-6A57-44E3-95A8-4DAEF771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EA6-1B22-468C-AE9E-B7A2A5F8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D9C-9E41-4A0D-88F6-4102AE1C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F33-2B25-49FB-B034-B7E64588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B09-FAA9-487B-8936-8CFF837B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B61-489E-4C45-9743-9C48A443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744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78E-1F04-40C2-A02E-1C13178D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012-551D-49BB-99E6-F8304F76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B7C-3DF4-4BAF-9C67-952F9B49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1FE-1436-4023-8472-A35C59CF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marL="230040" indent="-230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193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356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6680" indent="-1522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63C19705-2D9A-4607-9B49-E92E1A6D45D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24280" y="2286000"/>
            <a:ext cx="4391640" cy="2709720"/>
            <a:chOff x="4724280" y="2286000"/>
            <a:chExt cx="4391640" cy="2709720"/>
          </a:xfrm>
        </p:grpSpPr>
        <p:sp>
          <p:nvSpPr>
            <p:cNvPr id="42" name=""/>
            <p:cNvSpPr/>
            <p:nvPr/>
          </p:nvSpPr>
          <p:spPr>
            <a:xfrm>
              <a:off x="6172200" y="2286000"/>
              <a:ext cx="1447920" cy="81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http://…/JohnSm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24280" y="3505320"/>
              <a:ext cx="121932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715000" y="289548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86600" y="3132000"/>
              <a:ext cx="365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895480"/>
              <a:ext cx="1132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0" y="3352680"/>
              <a:ext cx="106668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520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00800" y="4419720"/>
              <a:ext cx="60948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0120" y="4419720"/>
              <a:ext cx="76176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629400" y="373392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37339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93680" y="297180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3040" y="3835440"/>
              <a:ext cx="126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8240" y="403848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G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447920" y="23623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Becky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8128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990360" y="297180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20832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960" y="29718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312408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49568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7621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05120" y="38098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809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9400" y="304812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8400" y="391176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3960" y="4114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114300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63400" y="15858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219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8920" y="14479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380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…#B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905120" y="914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41520" y="6858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5:53:22Z</dcterms:created>
  <dc:creator>Brian McBride</dc:creator>
  <dc:description/>
  <dc:language>en-US</dc:language>
  <cp:lastModifiedBy>Brian McBride</cp:lastModifiedBy>
  <dcterms:modified xsi:type="dcterms:W3CDTF">2002-03-24T16:06:54Z</dcterms:modified>
  <cp:revision>1</cp:revision>
  <dc:subject/>
  <dc:title>PowerPoint Presentation</dc:title>
</cp:coreProperties>
</file>