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049588" cy="3049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9159-03B5-4494-94A3-B73E1D093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ctr">
            <a:noAutofit/>
          </a:bodyPr>
          <a:p>
            <a: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25909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240" y="1836360"/>
            <a:ext cx="25909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9AFB-14B0-42AC-9B8C-19C212763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ctr">
            <a:noAutofit/>
          </a:bodyPr>
          <a:p>
            <a: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56280" y="88092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240" y="183636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56280" y="183636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45FA-F345-4C9E-B7D7-C365D763F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ctr">
            <a:noAutofit/>
          </a:bodyPr>
          <a:p>
            <a: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8341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04480" y="880920"/>
            <a:ext cx="8341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80720" y="880920"/>
            <a:ext cx="8341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240" y="1836360"/>
            <a:ext cx="8341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04480" y="1836360"/>
            <a:ext cx="8341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80720" y="1836360"/>
            <a:ext cx="8341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C578-60D2-4283-9FE5-118E4AC9A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ctr">
            <a:noAutofit/>
          </a:bodyPr>
          <a:p>
            <a: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240" y="880920"/>
            <a:ext cx="25909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9B93-354E-4593-9379-45AC7A2AD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ctr">
            <a:noAutofit/>
          </a:bodyPr>
          <a:p>
            <a: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2590920" cy="182880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0F7C-ACCE-4E6C-808C-0C399FD4F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ctr">
            <a:noAutofit/>
          </a:bodyPr>
          <a:p>
            <a: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1264320" cy="182880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56280" y="880920"/>
            <a:ext cx="1264320" cy="182880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E087-4373-49D9-9C3B-E7A65C3CA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ctr">
            <a:noAutofit/>
          </a:bodyPr>
          <a:p>
            <a: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FE92-0153-42A5-8069-E6B21A2ED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240" y="271080"/>
            <a:ext cx="259092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4447-3759-40A1-9359-CC480D27F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ctr">
            <a:noAutofit/>
          </a:bodyPr>
          <a:p>
            <a: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56280" y="880920"/>
            <a:ext cx="1264320" cy="182880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240" y="183636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0CD4-470E-4FBF-9DF1-B4CB80B7A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ctr">
            <a:noAutofit/>
          </a:bodyPr>
          <a:p>
            <a: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1264320" cy="182880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56280" y="88092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56280" y="183636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56DF-4641-4B13-ABFF-636B7483A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ctr">
            <a:noAutofit/>
          </a:bodyPr>
          <a:p>
            <a: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56280" y="88092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240" y="1836360"/>
            <a:ext cx="25909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946B-5C1A-495B-87B5-9CDFC2C1C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ctr">
            <a:noAutofit/>
          </a:bodyPr>
          <a:p>
            <a: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880920"/>
            <a:ext cx="2590920" cy="182880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marL="130320" indent="-13032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82600" indent="-1080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434880" indent="-8712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609480" indent="-8712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784080" indent="-87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784080" indent="-87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784080" indent="-87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2776680"/>
            <a:ext cx="635040" cy="20304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Autofit/>
          </a:bodyPr>
          <a:lstStyle>
            <a:lvl1pPr indent="0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41120" y="2776680"/>
            <a:ext cx="965160" cy="20304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Autofit/>
          </a:bodyPr>
          <a:lstStyle>
            <a:lvl1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84480" y="2776680"/>
            <a:ext cx="635040" cy="20304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Autofit/>
          </a:bodyPr>
          <a:lstStyle>
            <a:lvl1pPr indent="0" algn="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fld id="{394E600E-3B26-418F-BDD5-E13AA0BF04C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52280"/>
            <a:ext cx="1447920" cy="812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…/JohnSm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990720"/>
            <a:ext cx="365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52480" y="914400"/>
            <a:ext cx="53352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95280" y="2362320"/>
            <a:ext cx="990720" cy="53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@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828800" y="1600200"/>
            <a:ext cx="10666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 Sm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914040" y="91440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83600" y="990720"/>
            <a:ext cx="75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F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00" y="914400"/>
            <a:ext cx="104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E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1219320"/>
            <a:ext cx="106668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1752480"/>
            <a:ext cx="5331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03800" y="205740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df: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7320" y="243828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609480" y="1828800"/>
            <a:ext cx="152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8680" y="1905120"/>
            <a:ext cx="66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df: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320" y="2286000"/>
            <a:ext cx="106668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4T17:37:13Z</dcterms:created>
  <dc:creator>Brian McBride</dc:creator>
  <dc:description/>
  <dc:language>en-US</dc:language>
  <cp:lastModifiedBy>Brian McBride</cp:lastModifiedBy>
  <dcterms:modified xsi:type="dcterms:W3CDTF">2002-03-24T17:40:27Z</dcterms:modified>
  <cp:revision>3</cp:revision>
  <dc:subject/>
  <dc:title>PowerPoint Presentation</dc:title>
</cp:coreProperties>
</file>