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958-A1BC-436F-9905-72E067A8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BA9-0416-45B4-B05E-82AE2D6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2C8-B617-4EDC-803C-9A320A33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9A4-F946-4AF1-934B-7191BB99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F52-4788-4CE4-A309-8CE22A5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02B-E610-4F6E-9FCB-1D625DCD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A93-D0A0-43BE-9B3C-7837047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7C6-18A4-40CD-9B66-4B5C211D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DB3-5496-4E27-95E8-B1D545C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5D2-542A-4B11-A26B-D2C63031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D68-B053-4795-95E2-1C6C9F8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E74-1587-4F3F-A78B-81D80B59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0730-6295-4DD7-B1AA-6173D04AD9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para WA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an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ulouse, 04-0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040" y="2362320"/>
            <a:ext cx="4748400" cy="36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2374920"/>
            <a:ext cx="4748040" cy="364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800" y="6080040"/>
            <a:ext cx="83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puede ser resuelto sin necesidad de reconfigurar los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94160" y="2438280"/>
            <a:ext cx="4749840" cy="364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729320" cy="364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43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ol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6080040"/>
            <a:ext cx="86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endo de la misma configuración inicial que en el problema de 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os robots tienen que reconfigurarse para obtener una solución vál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800" y="2589120"/>
            <a:ext cx="4740480" cy="364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1800" y="2603520"/>
            <a:ext cx="47322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Primero se reconfigura el robot de la dere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8288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Después el de l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240" y="6080040"/>
            <a:ext cx="76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mágenes corresponden a las configuraciones singulare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la reconfigu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 reconfigu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040" y="6080040"/>
            <a:ext cx="813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no tiene solución puesto que el nuevo obstáculo impi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nfiguración de los rob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 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680" y="2379600"/>
            <a:ext cx="4732200" cy="364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3880" y="2452680"/>
            <a:ext cx="4740120" cy="36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1:21:39Z</dcterms:created>
  <dc:creator>LAAS CNRS</dc:creator>
  <dc:description/>
  <dc:language>en-US</dc:language>
  <cp:lastModifiedBy>LAAS CNRS</cp:lastModifiedBy>
  <dcterms:modified xsi:type="dcterms:W3CDTF">2006-01-04T16:08:46Z</dcterms:modified>
  <cp:revision>6</cp:revision>
  <dc:subject/>
  <dc:title>Ejemplo para WAFR</dc:title>
</cp:coreProperties>
</file>