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8BE-BA8C-4B11-9D9F-8591C8EA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36E-D4BC-4C67-A7BE-08EEE09F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659-1015-4EBE-B117-8A36DFAC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43F-C762-459A-81B7-857B7E59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766-92A4-4327-9221-0D3CDB47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54B-8085-4ECB-919F-93638272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19A-76B6-4AAC-83B6-97DF13B2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C8C-3283-4F70-89DE-5AACEFA7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A90-2C52-407F-9BC8-02A7A13F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57F-E421-451B-A877-745E33C6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2C4-D13C-4F9C-8B04-0FAAF4A0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7F4-5727-4535-B758-465D7740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 fontScale="87000"/>
          </a:bodyPr>
          <a:p>
            <a:pPr marL="141840" indent="-141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07800" indent="-11844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73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62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fld id="{C3556D98-A972-4D1F-8600-34978F3B2ECD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074600"/>
            <a:ext cx="365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9528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066680" y="91440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2362320"/>
            <a:ext cx="60948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04920" y="1676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0440" y="91440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380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16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992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25:04Z</dcterms:created>
  <dc:creator>Brian McBride</dc:creator>
  <dc:description/>
  <dc:language>en-US</dc:language>
  <cp:lastModifiedBy>Brian McBride</cp:lastModifiedBy>
  <dcterms:modified xsi:type="dcterms:W3CDTF">2002-03-24T17:51:18Z</dcterms:modified>
  <cp:revision>2</cp:revision>
  <dc:subject/>
  <dc:title>PowerPoint Presentation</dc:title>
</cp:coreProperties>
</file>