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45E7-40D1-43F6-9FF0-BE469F78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D00-88C1-45A9-B0DB-38C1D6D7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FA5F-3D8E-4C24-8518-13111C3E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589-B2D5-4C85-89E0-4D328CA0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6F57-A537-4E82-9F85-C51ADEE8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0B1-D961-4869-A726-4C8AD29D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2DD-1D12-498A-9549-55CCDC1D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6CF-B24F-4875-A26E-438183FD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271080"/>
            <a:ext cx="58291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B8E-7D03-40CF-84D0-4456EA68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BA0-7956-4600-B46F-C0928250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237A-2227-405B-83A1-AD52B64E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419E-7581-49B0-ACD7-9826F7EA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70000"/>
          </a:bodyPr>
          <a:p>
            <a:pPr marL="148680" indent="-148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220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95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93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2776680"/>
            <a:ext cx="142884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2776680"/>
            <a:ext cx="217152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2776680"/>
            <a:ext cx="142848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E5A7407C-383F-40D0-964E-9EB849C0F1A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152280"/>
            <a:ext cx="144756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10746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295280"/>
            <a:ext cx="106704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828800" y="685800"/>
            <a:ext cx="8380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362320"/>
            <a:ext cx="60984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066320" y="16765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71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592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2292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990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152388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7840" y="106668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11430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286000"/>
            <a:ext cx="9903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762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4720" y="6858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143000"/>
            <a:ext cx="106704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1676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42280" y="1828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9840" y="236232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24280" y="17524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3480" y="182880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209680"/>
            <a:ext cx="106668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57:51Z</dcterms:created>
  <dc:creator>Brian McBride</dc:creator>
  <dc:description/>
  <dc:language>en-US</dc:language>
  <cp:lastModifiedBy>Brian McBride</cp:lastModifiedBy>
  <dcterms:modified xsi:type="dcterms:W3CDTF">2002-03-24T17:58:18Z</dcterms:modified>
  <cp:revision>1</cp:revision>
  <dc:subject/>
  <dc:title>PowerPoint Presentation</dc:title>
</cp:coreProperties>
</file>