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76D8-B803-44CF-B26D-1C2DDEF71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04BE-FC39-4B1F-8347-CEAB82C7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A70C-2154-4E39-9CC5-46EC5F455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199F-6610-408D-83AD-9E2145BE4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A061-958E-40E0-A150-1124EE0A5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3D60-A840-4EE1-9480-4BD36EFC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E7C9-F3D4-4AE6-A628-7B60A24C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495A-2777-4C30-80AA-2619DD86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61B5-F094-4C23-852A-20720F2F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092E-A8EE-4393-9795-ED1BE954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590D-48FC-454B-927F-7DE0B060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CF58-0186-4FBD-B084-CFCE3D54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1E76-C6A9-4D7B-BBF3-205CA634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658F-4B62-47FC-B6B1-332EE392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A9F4-FBB7-4883-9EC8-46C84344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A76B-2E8A-4CCD-9A66-22AB93F49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6C5D-FE75-4921-9A4E-BE23CC681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5FEF-6E2A-44CA-AFF8-07C183E6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B78B-7282-4A34-9AD8-9FBEB246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BB3B-2091-4C7B-9AC4-0709DA07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D52C-12F1-419A-B9B1-52015AE3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F970-1B4F-47B5-9A37-AE3E06BB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4D37-DF57-4A18-A94A-79A363D7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25FD-A29F-467A-AD2F-4DF369C5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219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1447920" y="6324120"/>
            <a:ext cx="6324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848360" y="6324120"/>
            <a:ext cx="1143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7512-193E-4826-AE1D-45A7C75F5612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304920"/>
            <a:ext cx="8305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b87f2"/>
              </a:gs>
              <a:gs pos="100000">
                <a:srgbClr val="243560"/>
              </a:gs>
            </a:gsLst>
            <a:lin ang="5400000"/>
          </a:gradFill>
          <a:ln w="0">
            <a:noFill/>
          </a:ln>
          <a:effectLst>
            <a:outerShdw dist="115171" dir="502314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1480" y="343080"/>
            <a:ext cx="8209080" cy="1193760"/>
            <a:chOff x="501480" y="343080"/>
            <a:chExt cx="8209080" cy="1193760"/>
          </a:xfrm>
        </p:grpSpPr>
        <p:sp>
          <p:nvSpPr>
            <p:cNvPr id="6" name="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49440" y="1219320"/>
              <a:ext cx="7913520" cy="261720"/>
            </a:xfrm>
            <a:custGeom>
              <a:avLst/>
              <a:gdLst/>
              <a:ahLst/>
              <a:rect l="l" t="t" r="r" b="b"/>
              <a:pathLst>
                <a:path w="4985" h="213">
                  <a:moveTo>
                    <a:pt x="202" y="213"/>
                  </a:moveTo>
                  <a:cubicBezTo>
                    <a:pt x="132" y="213"/>
                    <a:pt x="0" y="113"/>
                    <a:pt x="0" y="0"/>
                  </a:cubicBezTo>
                  <a:lnTo>
                    <a:pt x="527" y="1"/>
                  </a:lnTo>
                  <a:lnTo>
                    <a:pt x="4985" y="1"/>
                  </a:lnTo>
                  <a:cubicBezTo>
                    <a:pt x="4985" y="114"/>
                    <a:pt x="4863" y="213"/>
                    <a:pt x="4793" y="213"/>
                  </a:cubicBezTo>
                  <a:lnTo>
                    <a:pt x="202" y="213"/>
                  </a:lnTo>
                  <a:close/>
                </a:path>
              </a:pathLst>
            </a:custGeom>
            <a:gradFill rotWithShape="0">
              <a:gsLst>
                <a:gs pos="0">
                  <a:srgbClr val="85a5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5800" y="380880"/>
              <a:ext cx="7848720" cy="235080"/>
            </a:xfrm>
            <a:custGeom>
              <a:avLst/>
              <a:gdLst/>
              <a:ahLst/>
              <a:rect l="l" t="t" r="r" b="b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a0b9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685800" y="609120"/>
              <a:ext cx="7848720" cy="152640"/>
            </a:xfrm>
            <a:custGeom>
              <a:avLst/>
              <a:gdLst/>
              <a:ahLst/>
              <a:rect l="l" t="t" r="r" b="b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854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6ED4-68EF-46F4-B631-FAC65C947F28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2286000"/>
            <a:ext cx="8305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b87f2"/>
              </a:gs>
              <a:gs pos="100000">
                <a:srgbClr val="243560"/>
              </a:gs>
            </a:gsLst>
            <a:lin ang="5400000"/>
          </a:gradFill>
          <a:ln w="0">
            <a:noFill/>
          </a:ln>
          <a:effectLst>
            <a:outerShdw dist="115171" dir="502314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01480" y="2324160"/>
            <a:ext cx="8209080" cy="1193760"/>
            <a:chOff x="501480" y="2324160"/>
            <a:chExt cx="8209080" cy="1193760"/>
          </a:xfrm>
        </p:grpSpPr>
        <p:sp>
          <p:nvSpPr>
            <p:cNvPr id="52" name=""/>
            <p:cNvSpPr/>
            <p:nvPr/>
          </p:nvSpPr>
          <p:spPr>
            <a:xfrm>
              <a:off x="501480" y="232416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9440" y="3200400"/>
              <a:ext cx="7913520" cy="262080"/>
            </a:xfrm>
            <a:custGeom>
              <a:avLst/>
              <a:gdLst/>
              <a:ahLst/>
              <a:rect l="l" t="t" r="r" b="b"/>
              <a:pathLst>
                <a:path w="4985" h="213">
                  <a:moveTo>
                    <a:pt x="202" y="213"/>
                  </a:moveTo>
                  <a:cubicBezTo>
                    <a:pt x="132" y="213"/>
                    <a:pt x="0" y="113"/>
                    <a:pt x="0" y="0"/>
                  </a:cubicBezTo>
                  <a:lnTo>
                    <a:pt x="527" y="1"/>
                  </a:lnTo>
                  <a:lnTo>
                    <a:pt x="4985" y="1"/>
                  </a:lnTo>
                  <a:cubicBezTo>
                    <a:pt x="4985" y="114"/>
                    <a:pt x="4863" y="213"/>
                    <a:pt x="4793" y="213"/>
                  </a:cubicBezTo>
                  <a:lnTo>
                    <a:pt x="202" y="213"/>
                  </a:lnTo>
                  <a:close/>
                </a:path>
              </a:pathLst>
            </a:custGeom>
            <a:gradFill rotWithShape="0">
              <a:gsLst>
                <a:gs pos="0">
                  <a:srgbClr val="85a5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5800" y="2362320"/>
              <a:ext cx="7848720" cy="234720"/>
            </a:xfrm>
            <a:custGeom>
              <a:avLst/>
              <a:gdLst/>
              <a:ahLst/>
              <a:rect l="l" t="t" r="r" b="b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a0b9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85800" y="2589840"/>
              <a:ext cx="7848720" cy="152280"/>
            </a:xfrm>
            <a:custGeom>
              <a:avLst/>
              <a:gdLst/>
              <a:ahLst/>
              <a:rect l="l" t="t" r="r" b="b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854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863640" y="2384280"/>
            <a:ext cx="7594560" cy="10447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ad41a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ad41a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63640" y="2384280"/>
            <a:ext cx="7594560" cy="10447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PO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ow to us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Structure position </a:t>
            </a: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POM_EULER_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ypedef struct POM_EULER_V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OM_EULER      euler;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OM_EULER_VARIANCE      v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} POM_EULER_V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ypedef struct POM_EULER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uble yaw, pitch, rol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uble x, y, z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} POM_EUL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ypedef struct POM_EULER_VARIANC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uble vo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uble vop, vp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uble vor, vpr, vr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uble vox, vpx, vrx, vxx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uble voy, vpy, vry, vxy, vy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uble voz, vpz, vrz, vxz, vyz, vzz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} POM_EULER_VARIANC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Using: A Motion Estimator (ME) modu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81080" y="1904760"/>
            <a:ext cx="510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n .gen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quires: pom;</a:t>
            </a:r>
            <a:r>
              <a:rPr b="0" lang="fr-FR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mport from p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mStruct.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/* Motion Estimator Poster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ster MEPos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pdate:                 us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ype:                     POM_ME_P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ec_task:            PosterTask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Utilization: a Motion Estimator (ME) modu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 code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b87f2"/>
                </a:solidFill>
                <a:latin typeface="Arial"/>
              </a:rPr>
              <a:t>#includ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"pomStruct.h"          /* pom ME client library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tructure produced by a motion estima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ypedef struct POM_ME_POS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M_ME_CLASS class;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/* POM_ME_ABSOLUTE or POM_ME_DELTA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t unus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uble confidence;               /* must be in [0-1]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t date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t date2;                              /* to disapear 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M_EULER_V main;         /* mainToOrigin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M_EULER_V VLoc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} PomMEP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Utilization: a Sensor Estimator (SE) modu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 code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b87f2"/>
                </a:solidFill>
                <a:latin typeface="Arial"/>
              </a:rPr>
              <a:t>#includ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"pomStruct.h"          /* pom ME client library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tructure produced by a Sensor Estimator (SE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ypedef struct POM_SENSOR_POS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t da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t pa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M_EULER_V sensorToMai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M_EULER_V mainToBa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M_EULER_V mainToOrigi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M_EULER_V VLoc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} POM_SENSOR_P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Utilization: a position consumer modu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n .g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/*  posters updating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ec_task PosterTask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eriod:                 RFLEX_TICKS_PERIO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lay:                    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iority:                  3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ack_size:            80000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_init_func:           rflexPosterTaskIni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_end_func:          rflexPosterTask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_func:                  rflexPosterTrackPer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2000" spc="-1" strike="noStrike">
                <a:solidFill>
                  <a:srgbClr val="12bd00"/>
                </a:solidFill>
                <a:latin typeface="Arial"/>
              </a:rPr>
              <a:t>posters_input:       POM_SENSOR_P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Utilization: a position consumer modu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 code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/* Get the pom's current position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f (SDI_F-&gt;pomTagging == RFLEX_ENABLE_POMTA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lang="fr-FR" sz="1600" spc="-1" strike="noStrike">
                <a:solidFill>
                  <a:srgbClr val="12bd00"/>
                </a:solidFill>
                <a:latin typeface="Arial"/>
              </a:rPr>
              <a:t>posterFind("pomRobotFramePos",&amp;pomFrameId)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!= OK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puts("rflex: could not get frame\n", stder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mFrameId = NUL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*bilan = S_rflexPumpTask_POSTER_NOT_FOU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turn ETH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lang="fr-FR" sz="1600" spc="-1" strike="noStrike">
                <a:solidFill>
                  <a:srgbClr val="12bd00"/>
                </a:solidFill>
                <a:latin typeface="Arial"/>
              </a:rPr>
              <a:t>rflexPOM_SENSOR_POSPosterRead(pomFrameId,&amp;firstFrame)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!= OK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puts("rflex: could not read frame\n", stder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mFrameId = NUL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*bilan = S_rflexPumpTask_POSTER_NOT_FOU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turn ETH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Utilization: running Motion or Sensor Estimat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cript tcl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b87f2"/>
                </a:solidFill>
                <a:latin typeface="Arial"/>
              </a:rPr>
              <a:t>## INSI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m::SetModel /usr/local/openrobots/data/robots/rackham/geom/b21r.ge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b87f2"/>
                </a:solidFill>
                <a:latin typeface="Arial"/>
              </a:rPr>
              <a:t>## RFLEX / P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flex::PomTagging RFLEX_ENABLE_POMTA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2bd00"/>
                </a:solidFill>
                <a:latin typeface="Arial"/>
              </a:rPr>
              <a:t>pom::AddME rflex POM_FUS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m::SetRefME rf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m::Run POM_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5b87f2"/>
                </a:solidFill>
                <a:latin typeface="Arial"/>
              </a:rPr>
              <a:t>## PLATINE/P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latine::InitDriver /dev/ttyR7 9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2bd00"/>
                </a:solidFill>
                <a:latin typeface="Arial"/>
              </a:rPr>
              <a:t>pom::AddSE platine Platine Robot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Doc/Examp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ocs: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…/modules/pom/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odule rflex (mainly codels/rflexPostersTaskCodels.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odule pla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POM and INSIT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OM module uses 2 libra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M: Position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entralizes all the estimated positions of the rob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Situ: Internal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nages the graph (the links) of the frames on the rob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Robot positions manag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ll the Motion Estimators (ME) export their robot position for P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M produces one fused position for the robot (relative and absolu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 rot="5400000">
            <a:off x="3474720" y="1782360"/>
            <a:ext cx="3074760" cy="65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Frames Posi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ll the Sensors Estimators (SE) export their sensor position for P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M produces </a:t>
            </a:r>
            <a:r>
              <a:rPr b="0" lang="fr-FR" sz="2400" spc="-1" strike="noStrike">
                <a:solidFill>
                  <a:srgbClr val="000000"/>
                </a:solidFill>
                <a:latin typeface="ヒラギノ角ゴ Pro W3"/>
              </a:rPr>
              <a:t>_x0004_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ne position for each (sensor) frame on robot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ll the data must be tagged at acquisition time with its sensor configuration exported by P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 rot="5400000">
            <a:off x="3176280" y="1090080"/>
            <a:ext cx="2638440" cy="853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InSitu: Rackham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600200" y="1828800"/>
            <a:ext cx="3538440" cy="4724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181480" y="1828800"/>
            <a:ext cx="2000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Example: Rackham’s fra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3276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# b21r geometric model 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# Frame decla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rame CameraT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rame CameraEV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rame Platin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rame Sic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rame Robo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# The common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in Robo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# Links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00040" y="2057040"/>
            <a:ext cx="2438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ink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rom CameraT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o Platin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ranslate    0.0 0.0 0.075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otate       0.0 0.0 0.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ink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rom Platin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o Robo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ranslate    0.2 0.0 1.8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otate       0.0 0.0 0.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24480" y="2362320"/>
            <a:ext cx="2590920" cy="35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ink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rom Sic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o Robo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ranslate    -0.04 0.0 0.38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otate       0.0 0.0 0.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ink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rom CameraEV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o Robo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ranslate    0.065 -0.08 1.64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otate       1.526 0.0 1.526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InSitu: Jido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48320" y="1828440"/>
            <a:ext cx="4038480" cy="2095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905120" y="1712880"/>
            <a:ext cx="541008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InSitu: Jido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2895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Jidowanki geometric model ----------------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Frame declar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--- 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center of wheel axis projected onto flo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rame Robo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center of front SICK (motoriz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rame FrontSic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center of rear SI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rame RearSic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camera on p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rame PoleCamer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--- arm e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        z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        |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      R6*-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        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        *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        |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    Base*-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        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+----------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|          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|          | fro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+----------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mount point of robot a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rame BaseAr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position of last link of the a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rame R6Ar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95680" y="1828440"/>
            <a:ext cx="2438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53080" y="1828800"/>
            <a:ext cx="2133720" cy="51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ink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rom      Robo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o        BaseAr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anslate 0.180  0.0  0.924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otate    0.0  0.0  0.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ink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rom      Robo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o        R6Ar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anslate 0.0  0.0  0.93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otate    0.0  0.0  0.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ink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rom      R6Ar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o        Forc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anslate 0.0  0.0  0.10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otate    0.0  0.0  0.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ink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rom      Robo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o        Gripp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anslate 0.0  0.0  0.15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otate    0.0  0.0  0.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ink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rom      R6Ar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o        ArmCamer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anslate -0.100  0.0  0.125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otate    0.0  0.0  0.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05320" y="1752480"/>
            <a:ext cx="2133360" cy="49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6DOF force sensor (wri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rame Forc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Gri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rame Gripp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camera on a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rame ArmCamer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main fr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ain Robo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Link declar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ink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rom      Robo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o        FrontSic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anslate 0.350 0.0 0.27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otate    0.0  0.0  0.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ink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rom      Robo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o        RearSic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anslate -0.350 0.0  0.27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otate    0.0  0.0  0.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ink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rom      Robo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o        PoleCamer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anslate 0.0  0.0  0.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otate    0.0  0.0  0.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InSitu within Pom modu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M module exportes 1 poster per frame « </a:t>
            </a:r>
            <a:r>
              <a:rPr b="0" lang="fr-FR" sz="2800" spc="-1" strike="noStrike">
                <a:solidFill>
                  <a:srgbClr val="12bd00"/>
                </a:solidFill>
                <a:latin typeface="Arial"/>
              </a:rPr>
              <a:t>pom&lt;FramecdName&gt;Po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tructure POM_SENSOR_P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ypedef struct POM_SENSOR_POS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   date;                                                      /* time of acquisition 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   pa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OM_EULER_V      sensorToMain;        /* transformation from the sensor's frame to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* main robot's frame 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OM_EULER_V      mainToBase;          /* transformation  from the robot's main fram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* the current local frame 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OM_EULER_V      mainToOrigin;         /* transformation  from the robot's main fram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* the global absolute frame 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OM_EULER_V      VLocal;                     /* Local velocities 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} POM_SENSOR_PO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08:01:37Z</dcterms:created>
  <dc:creator>Maxime Cottret</dc:creator>
  <dc:description/>
  <dc:language>en-US</dc:language>
  <cp:lastModifiedBy>Sara Fleury</cp:lastModifiedBy>
  <cp:lastPrinted>1904-01-01T00:00:00Z</cp:lastPrinted>
  <dcterms:modified xsi:type="dcterms:W3CDTF">2006-04-28T17:04:27Z</dcterms:modified>
  <cp:revision>28</cp:revision>
  <dc:subject/>
  <dc:title>POM / INSITU</dc:title>
</cp:coreProperties>
</file>